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799-2131-4566-9E90-11D5D81F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BDF-25CF-49E7-81F4-5671B2D1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4B4-35D5-4CE9-AF1D-8D582F37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6F0-4593-4567-893F-6B8C1807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2DA-4ABA-4BD5-81D4-56D360F3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415-CDB8-4F0C-B284-406BD0F3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8BD-5421-4E99-A345-BBAA1D4C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068-5EB5-4CFB-B5DC-932775A1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550-1619-4EEB-98D5-4B193B2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6B2-DA60-4E87-B32D-8C26C5DA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B69-543D-48BD-A01C-2AAA4D1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23A-FCD0-4394-847D-5B1E6F4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3BF-9EC9-499D-9DE2-7D6EC5142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Add Encryption to A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Kelsey, Certicom, Dec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se infrastructure for deriving MAC keys: K[e] for aircraft app W, ground app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F(Z;len;0x02||mech||W||Y||X||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static shared secret between aircraft and ground application entity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 = encryption mechanism nego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,Y = ID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nonrepeating value for this CMA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 = key length for this encryp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eriv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, X, W, and Y are all available from MA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 and mech are available from encryption mechanism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s an Abstract F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way to consider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crypt(mech,key,count,sender,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 from mechanism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from key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, sender from current MAC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 of system doesn't care what mechanism is used or how it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rder of operations for this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do any non-crypto processing to data, e.g., com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, do encry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, do MACing or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resistance to reaction and chosen ciphertext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ove MAC/signature equally secure vs existential fo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Operations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Atta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altered ciphertext and observ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zwyck's result from Crypto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forgery by changing keys/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erson/Needham result fro Crypto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onrepudiation needed here--signatures are for immediat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Opera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ssage can be encrypted/decrypted in only one way, given counter and existing key and mech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forge signature/MAC because of encryption, you can find some signature/MAC forgeries using same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docum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draft1.t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more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to-Ground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G-G messages assume no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er must know whether receiver can accept encrypted mess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attributes in certific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database of ground entity pre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to-Ground Messages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er makes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s key (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s message under key (default mech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s ciphertext and s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to-Ground Mess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F(Z;len;0x02||mech||SID||RID||Rnd||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static shared secret from ECDH for sender and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 = default encryp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, RID =sender ID, receiv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nd = 128-bit random number from previous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 = length of key for this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encryption, authentication, and othe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ground-to-ground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and Requir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ting Encryption in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s of Encryptio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understood security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tandard mechanisms wher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lengths should be at least 100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, 3DES, IDEA, Blowfish, RC4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phers should be well-analyzed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ciphers in CFB or OFB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 modes (CBC with ciphertext stea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Ciphers and Chain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 are used in chaining m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 modes (CFB,OFB) have no data expanison; these are the right ones for thi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standard modes available, but why use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pher Feedback (CF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encryption is used; faster for Rijndael/A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size feedback is possible; we use full block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haining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495680"/>
            <a:ext cx="1600200" cy="16002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4433760"/>
            <a:ext cx="53352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3200" y="5805360"/>
            <a:ext cx="53316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7913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6360" y="59119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1360" y="5576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440" y="4952880"/>
            <a:ext cx="60984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1360" y="60339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8136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636264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57913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576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9528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60339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52960" y="636264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79132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897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495680"/>
            <a:ext cx="1676160" cy="16002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81760" y="57913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576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49528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339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29480" y="636264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79132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5897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B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re are two equal ciphertext blocks with full-block CFB-mode, C[j]=C[k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[j+1] = P[j+1] xor E(C[j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[k+1] = P[k+1] xor E(C[k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Change keys before internal collisions lik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s enced with same key, prob of collision is low (about 1/320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ut Feedback (OF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a stream cipher with a block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encryption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is independent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Propagation -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038480"/>
            <a:ext cx="1600200" cy="11430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976560"/>
            <a:ext cx="53316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9160" y="5348160"/>
            <a:ext cx="53352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53341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52680" y="5454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57680" y="5119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2760" y="44956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5576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590544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81560" y="53341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5119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4956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576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29280" y="590544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533412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5440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4038480"/>
            <a:ext cx="1676520" cy="11430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58080" y="53341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119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4495680"/>
            <a:ext cx="60984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5576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05440" y="590544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533412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440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B Mod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1 == IV2 leads to identical keystream for two messages (easy to avo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1 = KS2 (collision with keystream block) leads to identical keystream (hard to avo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 sent, prob of such a collision is very low (&lt;1/10000000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ollision is much more dangerous--leaks about half of message, not just one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 and 3DES are well 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ubl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experience analyzing block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experience using block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block ciphers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t least 48 bit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t least 100 bi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tract Encryption F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(mech;key;count;senderID;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must support th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count or sender changes message even if data is equal for two such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pans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haining Modes and I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ing modes (CFB,OFB) need IV s to be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 = S||C||00.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0x00 for aircraft-sent message, 0x01 for ground-sen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16-bit counter (e.g., Cou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..0 = binary zero pa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and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dd encryption support to ATN with minimal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extra bandwidth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(w.r.t. national policies on cryp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changes to overa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haining Mod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these acceptable IV 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: IV s must never repeat for sam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and sender byte guarante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ther requirements for IV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ed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-128-CF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key triple-DES-CF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AES-128 as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riple-DES, if count of messages goes very high (e.g.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tart expecting small leaks of plai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odes must be used with MACs or signatures; they provide no guarantee of authent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how to make encryption mechanisms with all our require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recommended two specific mechanisms, AES-128-CFB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ES-112-CF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t encryption into system, we need to know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encryp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ncryption with MACs/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ncryption on ground-to-ground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ing En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Required vari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values for requesting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mechanism as requesting authentication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logon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ontac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forward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 (CM server facility qu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many encryption mechanisms; need way to negoti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Make ground CM responsible for deciding which mechanisms are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bandwidth to negotiate with ground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pply national policies w.r.t.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ossible ways for CM ground entity to dec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logon request contains list of up to 8 supported encryption mechanisms from air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an negotiate with ground entities for encryp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an look up preferences in 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an check extended attributes of certificates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works the same way regardless of how CM makes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one default encryption mechanism, always supp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need one default for "null encryption" to signal no encryption sup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ncryption mechanisms have no data expansion and acceptable level of secu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-logon-response (and similar messages) contains indication of encryption mechanism for each application reque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one byte per application in bandwi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 in bandwidth for encryption support is kept very low: 8 bytes + 1 byte per application reque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 encryption indicator byte signals no encryption support for that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6:54:20Z</dcterms:created>
  <dc:creator>jkelsey</dc:creator>
  <dc:description/>
  <dc:language>en-US</dc:language>
  <cp:lastModifiedBy>jkelsey</cp:lastModifiedBy>
  <dcterms:modified xsi:type="dcterms:W3CDTF">2001-12-20T18:15:04Z</dcterms:modified>
  <cp:revision>10</cp:revision>
  <dc:subject/>
  <dc:title>How to Add Encryption to ATN</dc:title>
</cp:coreProperties>
</file>