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CB08-3F5B-4132-A6D0-614DF605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31C1-B702-4947-AAF5-9DE0FF78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4C7-4F6A-4DC5-A02F-B6DD2163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B26-E248-4447-895D-CAE4AC8D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EA61-7771-45DE-A7B4-DA134C6F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1FF-AD2F-4D06-915C-6AE6A4BD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676-0B5E-4D43-9690-FC1FA810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9CD2-5FB9-436E-9158-E2A0D174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D9A1-264A-4867-9E9D-1A28F050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6A6-5F18-43AC-B774-23EB3C9B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F74-68A3-441C-AFAE-5FB05410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7D57-9C72-4390-8381-B85BD7CD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F54-6CF3-47EE-BD5D-020D78EE9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447920"/>
            <a:ext cx="838440" cy="838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160" y="2338560"/>
            <a:ext cx="167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O P/OICS Prof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ir and gr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676520"/>
            <a:ext cx="761760" cy="409320"/>
          </a:xfrm>
          <a:prstGeom prst="rightArrow">
            <a:avLst>
              <a:gd name="adj1" fmla="val 50000"/>
              <a:gd name="adj2" fmla="val 465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838080"/>
            <a:ext cx="9144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080" y="114300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0080" y="228600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40080" y="35053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97760" y="533520"/>
            <a:ext cx="26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 Profiles (air and grou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9600" y="1066680"/>
            <a:ext cx="97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CA/Euroc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li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2057400"/>
            <a:ext cx="9144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3276720"/>
            <a:ext cx="9144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9600" y="2286000"/>
            <a:ext cx="97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TCA/Euroc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selin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23160" y="350532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ia Profil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1066680"/>
            <a:ext cx="1752480" cy="228600"/>
          </a:xfrm>
          <a:prstGeom prst="rightArrow">
            <a:avLst>
              <a:gd name="adj1" fmla="val 50000"/>
              <a:gd name="adj2" fmla="val 19165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2486400">
            <a:off x="4094280" y="2079720"/>
            <a:ext cx="2590560" cy="304560"/>
          </a:xfrm>
          <a:prstGeom prst="rightArrow">
            <a:avLst>
              <a:gd name="adj1" fmla="val 50000"/>
              <a:gd name="adj2" fmla="val 21264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05720" y="762120"/>
            <a:ext cx="99036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1447920"/>
            <a:ext cx="99036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2133720"/>
            <a:ext cx="99036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44680" y="974880"/>
            <a:ext cx="72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astric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9440" y="1676520"/>
            <a:ext cx="51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6840" y="2362320"/>
            <a:ext cx="52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7720" y="457200"/>
            <a:ext cx="186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 Completed Pro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276720"/>
            <a:ext cx="914400" cy="5331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05720" y="3886200"/>
            <a:ext cx="914400" cy="533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05720" y="5105520"/>
            <a:ext cx="914400" cy="5331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4495680"/>
            <a:ext cx="914400" cy="533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5715000"/>
            <a:ext cx="914400" cy="5335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2920" y="6400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6200" y="2895480"/>
            <a:ext cx="18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craft Completed Pro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82760" y="3336840"/>
            <a:ext cx="823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ing 7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Honeywell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96440" y="3962520"/>
            <a:ext cx="77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ing 7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oll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97160" y="457200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rbus 3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extan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97160" y="5181480"/>
            <a:ext cx="75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irbus 3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Smi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96440" y="5791320"/>
            <a:ext cx="77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oeing 76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ollin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120" y="34290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B747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403848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B747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0120" y="464832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A340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40120" y="5257800"/>
            <a:ext cx="112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A340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640120" y="586728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FILE-B767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2666880" y="373356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200400" y="4190760"/>
            <a:ext cx="24382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4120" y="5410080"/>
            <a:ext cx="3699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exchanged via CM from ai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nd, but only implmenetation profiles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nked to aircraft.  These are also documented in SV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066680"/>
            <a:ext cx="129564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lnTo>
                  <a:pt x="0" y="0"/>
                </a:lnTo>
                <a:lnTo>
                  <a:pt x="816" y="0"/>
                </a:lnTo>
                <a:lnTo>
                  <a:pt x="816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5880" y="68580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O Published and Mainta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57200"/>
            <a:ext cx="2819520" cy="304920"/>
          </a:xfrm>
          <a:custGeom>
            <a:avLst/>
            <a:gdLst/>
            <a:ahLst/>
            <a:rect l="l" t="t" r="r" b="b"/>
            <a:pathLst>
              <a:path w="1776" h="192">
                <a:moveTo>
                  <a:pt x="0" y="192"/>
                </a:moveTo>
                <a:lnTo>
                  <a:pt x="0" y="0"/>
                </a:lnTo>
                <a:lnTo>
                  <a:pt x="1776" y="0"/>
                </a:lnTo>
                <a:lnTo>
                  <a:pt x="1776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24920" y="15228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O Published and Maintained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457200"/>
            <a:ext cx="2819520" cy="304920"/>
          </a:xfrm>
          <a:custGeom>
            <a:avLst/>
            <a:gdLst/>
            <a:ahLst/>
            <a:rect l="l" t="t" r="r" b="b"/>
            <a:pathLst>
              <a:path w="1776" h="192">
                <a:moveTo>
                  <a:pt x="0" y="192"/>
                </a:moveTo>
                <a:lnTo>
                  <a:pt x="0" y="0"/>
                </a:lnTo>
                <a:lnTo>
                  <a:pt x="1776" y="0"/>
                </a:lnTo>
                <a:lnTo>
                  <a:pt x="1776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3920" y="152280"/>
            <a:ext cx="23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AO Published and Maintained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225800">
            <a:off x="4191120" y="2742840"/>
            <a:ext cx="1981080" cy="304920"/>
          </a:xfrm>
          <a:prstGeom prst="rightArrow">
            <a:avLst>
              <a:gd name="adj1" fmla="val 50000"/>
              <a:gd name="adj2" fmla="val 162426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800" y="3048120"/>
            <a:ext cx="1432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Aircraft profiles c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pport multi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mplementation profiles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r the superset of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CAO P/OI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906000">
            <a:off x="1828800" y="2743200"/>
            <a:ext cx="2514600" cy="304920"/>
          </a:xfrm>
          <a:prstGeom prst="rightArrow">
            <a:avLst>
              <a:gd name="adj1" fmla="val 50000"/>
              <a:gd name="adj2" fmla="val 206169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627552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gure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2T02:33:17Z</dcterms:created>
  <dc:creator>G. T. Saccone</dc:creator>
  <dc:description/>
  <dc:language>en-US</dc:language>
  <cp:lastModifiedBy>Preferred Customer</cp:lastModifiedBy>
  <cp:lastPrinted>2001-03-02T22:27:46Z</cp:lastPrinted>
  <dcterms:modified xsi:type="dcterms:W3CDTF">2001-03-02T22:27:52Z</dcterms:modified>
  <cp:revision>5</cp:revision>
  <dc:subject/>
  <dc:title>No Slide Title</dc:title>
</cp:coreProperties>
</file>