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BC3A-BB70-475E-8BFB-32C55BB7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687D-CF1F-4932-8BC7-0FBE1EF0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DA60-7D0F-4162-930A-B2AACB51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AF00-2D0E-45BF-995E-62294B63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E33-77EE-4B98-B221-C8543CCC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03E-9B1E-45E9-93EC-E3112E57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B54-B2C0-4561-98F1-AB25BFAF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12DD-7F8C-4AB1-B029-A6FAFCF5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1954-48B8-471E-B5CA-F9A3065E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A797-A7B5-4351-95D3-A7A404A4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707F-25E2-49A3-AE71-E2764658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76B4-0DAF-4C85-B615-DB503EDB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EAB7-1242-4BBE-8DAF-D284F9A79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533520"/>
            <a:ext cx="1981440" cy="769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ddress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24280" y="1219320"/>
            <a:ext cx="1676520" cy="563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CAO Registration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Public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914400"/>
            <a:ext cx="13334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rectory-based distributed 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431640"/>
            <a:ext cx="2057400" cy="170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939960"/>
            <a:ext cx="12193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FTN or CIDIN)/ 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6400" y="53352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 / ATSO1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1828800"/>
            <a:ext cx="11052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CAO Published AMHS MD and addressing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5181480"/>
            <a:ext cx="11052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CAO Registry of AMHS MDs and addressing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3" idx="3"/>
            <a:endCxn id="50" idx="3"/>
          </p:cNvCxnSpPr>
          <p:nvPr/>
        </p:nvCxnSpPr>
        <p:spPr>
          <a:xfrm flipH="1">
            <a:off x="4229280" y="1189800"/>
            <a:ext cx="152640" cy="2972160"/>
          </a:xfrm>
          <a:prstGeom prst="curvedConnector3">
            <a:avLst>
              <a:gd name="adj1" fmla="val -11583"/>
            </a:avLst>
          </a:prstGeom>
          <a:ln w="93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 flipV="1">
            <a:off x="5486400" y="2514600"/>
            <a:ext cx="0" cy="26668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419720" y="1371600"/>
            <a:ext cx="552240" cy="8380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580920" y="2286000"/>
            <a:ext cx="1390680" cy="160020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590920" y="2438280"/>
            <a:ext cx="2342880" cy="457200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1752480"/>
            <a:ext cx="2361960" cy="350532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4572000"/>
            <a:ext cx="2342880" cy="81288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90920" y="5562360"/>
            <a:ext cx="2361960" cy="177804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065960" y="1447920"/>
            <a:ext cx="381960" cy="533160"/>
            <a:chOff x="1065960" y="1447920"/>
            <a:chExt cx="381960" cy="533160"/>
          </a:xfrm>
        </p:grpSpPr>
        <p:grpSp>
          <p:nvGrpSpPr>
            <p:cNvPr id="59" name=""/>
            <p:cNvGrpSpPr/>
            <p:nvPr/>
          </p:nvGrpSpPr>
          <p:grpSpPr>
            <a:xfrm>
              <a:off x="1135800" y="1562040"/>
              <a:ext cx="312120" cy="228600"/>
              <a:chOff x="1135800" y="1562040"/>
              <a:chExt cx="312120" cy="228600"/>
            </a:xfrm>
          </p:grpSpPr>
          <p:sp>
            <p:nvSpPr>
              <p:cNvPr id="60" name=""/>
              <p:cNvSpPr/>
              <p:nvPr/>
            </p:nvSpPr>
            <p:spPr>
              <a:xfrm>
                <a:off x="1239840" y="156204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35800" y="171432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1065960" y="1447920"/>
              <a:ext cx="243360" cy="533160"/>
              <a:chOff x="1065960" y="1447920"/>
              <a:chExt cx="243360" cy="533160"/>
            </a:xfrm>
          </p:grpSpPr>
          <p:sp>
            <p:nvSpPr>
              <p:cNvPr id="63" name=""/>
              <p:cNvSpPr/>
              <p:nvPr/>
            </p:nvSpPr>
            <p:spPr>
              <a:xfrm>
                <a:off x="1101240" y="144792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3" idx="4"/>
              </p:cNvCxnSpPr>
              <p:nvPr/>
            </p:nvCxnSpPr>
            <p:spPr>
              <a:xfrm>
                <a:off x="1170720" y="160020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5" name=""/>
              <p:cNvCxnSpPr>
                <a:stCxn id="63" idx="4"/>
              </p:cNvCxnSpPr>
              <p:nvPr/>
            </p:nvCxnSpPr>
            <p:spPr>
              <a:xfrm>
                <a:off x="1170720" y="160020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6" name=""/>
              <p:cNvCxnSpPr>
                <a:stCxn id="63" idx="4"/>
              </p:cNvCxnSpPr>
              <p:nvPr/>
            </p:nvCxnSpPr>
            <p:spPr>
              <a:xfrm flipH="1">
                <a:off x="1065960" y="160020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7" name=""/>
              <p:cNvCxnSpPr/>
              <p:nvPr/>
            </p:nvCxnSpPr>
            <p:spPr>
              <a:xfrm flipH="1">
                <a:off x="1100880" y="182844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8" name=""/>
              <p:cNvCxnSpPr/>
              <p:nvPr/>
            </p:nvCxnSpPr>
            <p:spPr>
              <a:xfrm>
                <a:off x="1170360" y="182844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69" name=""/>
          <p:cNvSpPr/>
          <p:nvPr/>
        </p:nvSpPr>
        <p:spPr>
          <a:xfrm>
            <a:off x="3047040" y="2209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0040" y="4876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7920" y="65530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760" y="335268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8640" y="1295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0" y="29718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300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5680" y="9907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4480" y="19051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160" y="1447920"/>
            <a:ext cx="381960" cy="533160"/>
            <a:chOff x="1523160" y="1447920"/>
            <a:chExt cx="381960" cy="533160"/>
          </a:xfrm>
        </p:grpSpPr>
        <p:grpSp>
          <p:nvGrpSpPr>
            <p:cNvPr id="79" name=""/>
            <p:cNvGrpSpPr/>
            <p:nvPr/>
          </p:nvGrpSpPr>
          <p:grpSpPr>
            <a:xfrm>
              <a:off x="1593000" y="1562040"/>
              <a:ext cx="312120" cy="228600"/>
              <a:chOff x="1593000" y="1562040"/>
              <a:chExt cx="312120" cy="228600"/>
            </a:xfrm>
          </p:grpSpPr>
          <p:sp>
            <p:nvSpPr>
              <p:cNvPr id="80" name=""/>
              <p:cNvSpPr/>
              <p:nvPr/>
            </p:nvSpPr>
            <p:spPr>
              <a:xfrm>
                <a:off x="1697040" y="156204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593000" y="171432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523160" y="1447920"/>
              <a:ext cx="243360" cy="533160"/>
              <a:chOff x="1523160" y="1447920"/>
              <a:chExt cx="243360" cy="533160"/>
            </a:xfrm>
          </p:grpSpPr>
          <p:sp>
            <p:nvSpPr>
              <p:cNvPr id="83" name=""/>
              <p:cNvSpPr/>
              <p:nvPr/>
            </p:nvSpPr>
            <p:spPr>
              <a:xfrm>
                <a:off x="1558440" y="144792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3" idx="4"/>
              </p:cNvCxnSpPr>
              <p:nvPr/>
            </p:nvCxnSpPr>
            <p:spPr>
              <a:xfrm>
                <a:off x="1627920" y="160020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5" name=""/>
              <p:cNvCxnSpPr>
                <a:stCxn id="83" idx="4"/>
              </p:cNvCxnSpPr>
              <p:nvPr/>
            </p:nvCxnSpPr>
            <p:spPr>
              <a:xfrm>
                <a:off x="1627920" y="160020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6" name=""/>
              <p:cNvCxnSpPr>
                <a:stCxn id="83" idx="4"/>
              </p:cNvCxnSpPr>
              <p:nvPr/>
            </p:nvCxnSpPr>
            <p:spPr>
              <a:xfrm flipH="1">
                <a:off x="1523160" y="160020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7" name=""/>
              <p:cNvCxnSpPr/>
              <p:nvPr/>
            </p:nvCxnSpPr>
            <p:spPr>
              <a:xfrm flipH="1">
                <a:off x="1558080" y="182844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" name=""/>
              <p:cNvCxnSpPr/>
              <p:nvPr/>
            </p:nvCxnSpPr>
            <p:spPr>
              <a:xfrm>
                <a:off x="1627560" y="182844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89" name=""/>
          <p:cNvSpPr/>
          <p:nvPr/>
        </p:nvSpPr>
        <p:spPr>
          <a:xfrm>
            <a:off x="533520" y="3352680"/>
            <a:ext cx="2057400" cy="170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860640"/>
            <a:ext cx="12193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FTN or CIDIN)/ 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6400" y="345456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 / ATSO2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65960" y="4368960"/>
            <a:ext cx="381960" cy="533160"/>
            <a:chOff x="1065960" y="4368960"/>
            <a:chExt cx="381960" cy="533160"/>
          </a:xfrm>
        </p:grpSpPr>
        <p:grpSp>
          <p:nvGrpSpPr>
            <p:cNvPr id="93" name=""/>
            <p:cNvGrpSpPr/>
            <p:nvPr/>
          </p:nvGrpSpPr>
          <p:grpSpPr>
            <a:xfrm>
              <a:off x="1135800" y="4483080"/>
              <a:ext cx="312120" cy="228600"/>
              <a:chOff x="1135800" y="4483080"/>
              <a:chExt cx="312120" cy="228600"/>
            </a:xfrm>
          </p:grpSpPr>
          <p:sp>
            <p:nvSpPr>
              <p:cNvPr id="94" name=""/>
              <p:cNvSpPr/>
              <p:nvPr/>
            </p:nvSpPr>
            <p:spPr>
              <a:xfrm>
                <a:off x="1239840" y="448308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35800" y="463536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1065960" y="4368960"/>
              <a:ext cx="243360" cy="533160"/>
              <a:chOff x="1065960" y="4368960"/>
              <a:chExt cx="243360" cy="533160"/>
            </a:xfrm>
          </p:grpSpPr>
          <p:sp>
            <p:nvSpPr>
              <p:cNvPr id="97" name=""/>
              <p:cNvSpPr/>
              <p:nvPr/>
            </p:nvSpPr>
            <p:spPr>
              <a:xfrm>
                <a:off x="1101240" y="436896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8" name=""/>
              <p:cNvCxnSpPr>
                <a:stCxn id="97" idx="4"/>
              </p:cNvCxnSpPr>
              <p:nvPr/>
            </p:nvCxnSpPr>
            <p:spPr>
              <a:xfrm>
                <a:off x="1170720" y="452124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9" name=""/>
              <p:cNvCxnSpPr>
                <a:stCxn id="97" idx="4"/>
              </p:cNvCxnSpPr>
              <p:nvPr/>
            </p:nvCxnSpPr>
            <p:spPr>
              <a:xfrm>
                <a:off x="1170720" y="452124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0" name=""/>
              <p:cNvCxnSpPr>
                <a:stCxn id="97" idx="4"/>
              </p:cNvCxnSpPr>
              <p:nvPr/>
            </p:nvCxnSpPr>
            <p:spPr>
              <a:xfrm flipH="1">
                <a:off x="1065960" y="452124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1" name=""/>
              <p:cNvCxnSpPr/>
              <p:nvPr/>
            </p:nvCxnSpPr>
            <p:spPr>
              <a:xfrm flipH="1">
                <a:off x="1100880" y="474948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2" name=""/>
              <p:cNvCxnSpPr/>
              <p:nvPr/>
            </p:nvCxnSpPr>
            <p:spPr>
              <a:xfrm>
                <a:off x="1170360" y="474948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03" name=""/>
          <p:cNvGrpSpPr/>
          <p:nvPr/>
        </p:nvGrpSpPr>
        <p:grpSpPr>
          <a:xfrm>
            <a:off x="1523160" y="4368960"/>
            <a:ext cx="381960" cy="533160"/>
            <a:chOff x="1523160" y="4368960"/>
            <a:chExt cx="381960" cy="533160"/>
          </a:xfrm>
        </p:grpSpPr>
        <p:grpSp>
          <p:nvGrpSpPr>
            <p:cNvPr id="104" name=""/>
            <p:cNvGrpSpPr/>
            <p:nvPr/>
          </p:nvGrpSpPr>
          <p:grpSpPr>
            <a:xfrm>
              <a:off x="1593000" y="4483080"/>
              <a:ext cx="312120" cy="228600"/>
              <a:chOff x="1593000" y="4483080"/>
              <a:chExt cx="312120" cy="228600"/>
            </a:xfrm>
          </p:grpSpPr>
          <p:sp>
            <p:nvSpPr>
              <p:cNvPr id="105" name=""/>
              <p:cNvSpPr/>
              <p:nvPr/>
            </p:nvSpPr>
            <p:spPr>
              <a:xfrm>
                <a:off x="1697040" y="448308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593000" y="463536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523160" y="4368960"/>
              <a:ext cx="243360" cy="533160"/>
              <a:chOff x="1523160" y="4368960"/>
              <a:chExt cx="243360" cy="533160"/>
            </a:xfrm>
          </p:grpSpPr>
          <p:sp>
            <p:nvSpPr>
              <p:cNvPr id="108" name=""/>
              <p:cNvSpPr/>
              <p:nvPr/>
            </p:nvSpPr>
            <p:spPr>
              <a:xfrm>
                <a:off x="1558440" y="436896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" name=""/>
              <p:cNvCxnSpPr>
                <a:stCxn id="108" idx="4"/>
              </p:cNvCxnSpPr>
              <p:nvPr/>
            </p:nvCxnSpPr>
            <p:spPr>
              <a:xfrm>
                <a:off x="1627920" y="452124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" name=""/>
              <p:cNvCxnSpPr>
                <a:stCxn id="108" idx="4"/>
              </p:cNvCxnSpPr>
              <p:nvPr/>
            </p:nvCxnSpPr>
            <p:spPr>
              <a:xfrm>
                <a:off x="1627920" y="452124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1" name=""/>
              <p:cNvCxnSpPr>
                <a:stCxn id="108" idx="4"/>
              </p:cNvCxnSpPr>
              <p:nvPr/>
            </p:nvCxnSpPr>
            <p:spPr>
              <a:xfrm flipH="1">
                <a:off x="1523160" y="452124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2" name=""/>
              <p:cNvCxnSpPr/>
              <p:nvPr/>
            </p:nvCxnSpPr>
            <p:spPr>
              <a:xfrm flipH="1">
                <a:off x="1558080" y="474948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3" name=""/>
              <p:cNvCxnSpPr/>
              <p:nvPr/>
            </p:nvCxnSpPr>
            <p:spPr>
              <a:xfrm>
                <a:off x="1627560" y="474948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14" name=""/>
          <p:cNvSpPr/>
          <p:nvPr/>
        </p:nvSpPr>
        <p:spPr>
          <a:xfrm>
            <a:off x="533520" y="6400800"/>
            <a:ext cx="2057400" cy="170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7010280"/>
            <a:ext cx="12193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FTN or CIDIN)/ 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2440" y="6477120"/>
            <a:ext cx="202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te / ATSO3 MD (withou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Direct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065960" y="7518240"/>
            <a:ext cx="381960" cy="533160"/>
            <a:chOff x="1065960" y="7518240"/>
            <a:chExt cx="381960" cy="533160"/>
          </a:xfrm>
        </p:grpSpPr>
        <p:grpSp>
          <p:nvGrpSpPr>
            <p:cNvPr id="118" name=""/>
            <p:cNvGrpSpPr/>
            <p:nvPr/>
          </p:nvGrpSpPr>
          <p:grpSpPr>
            <a:xfrm>
              <a:off x="1135800" y="7632360"/>
              <a:ext cx="312120" cy="228600"/>
              <a:chOff x="1135800" y="7632360"/>
              <a:chExt cx="312120" cy="228600"/>
            </a:xfrm>
          </p:grpSpPr>
          <p:sp>
            <p:nvSpPr>
              <p:cNvPr id="119" name=""/>
              <p:cNvSpPr/>
              <p:nvPr/>
            </p:nvSpPr>
            <p:spPr>
              <a:xfrm>
                <a:off x="1239840" y="763236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35800" y="778464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065960" y="7518240"/>
              <a:ext cx="243360" cy="533160"/>
              <a:chOff x="1065960" y="7518240"/>
              <a:chExt cx="243360" cy="533160"/>
            </a:xfrm>
          </p:grpSpPr>
          <p:sp>
            <p:nvSpPr>
              <p:cNvPr id="122" name=""/>
              <p:cNvSpPr/>
              <p:nvPr/>
            </p:nvSpPr>
            <p:spPr>
              <a:xfrm>
                <a:off x="1101240" y="751824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3" name=""/>
              <p:cNvCxnSpPr>
                <a:stCxn id="122" idx="4"/>
              </p:cNvCxnSpPr>
              <p:nvPr/>
            </p:nvCxnSpPr>
            <p:spPr>
              <a:xfrm>
                <a:off x="1170720" y="767052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4" name=""/>
              <p:cNvCxnSpPr>
                <a:stCxn id="122" idx="4"/>
              </p:cNvCxnSpPr>
              <p:nvPr/>
            </p:nvCxnSpPr>
            <p:spPr>
              <a:xfrm>
                <a:off x="1170720" y="767052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5" name=""/>
              <p:cNvCxnSpPr>
                <a:stCxn id="122" idx="4"/>
              </p:cNvCxnSpPr>
              <p:nvPr/>
            </p:nvCxnSpPr>
            <p:spPr>
              <a:xfrm flipH="1">
                <a:off x="1065960" y="767052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6" name=""/>
              <p:cNvCxnSpPr/>
              <p:nvPr/>
            </p:nvCxnSpPr>
            <p:spPr>
              <a:xfrm flipH="1">
                <a:off x="1100880" y="789876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7" name=""/>
              <p:cNvCxnSpPr/>
              <p:nvPr/>
            </p:nvCxnSpPr>
            <p:spPr>
              <a:xfrm>
                <a:off x="1170360" y="789876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28" name=""/>
          <p:cNvGrpSpPr/>
          <p:nvPr/>
        </p:nvGrpSpPr>
        <p:grpSpPr>
          <a:xfrm>
            <a:off x="1523160" y="7518240"/>
            <a:ext cx="381960" cy="533160"/>
            <a:chOff x="1523160" y="7518240"/>
            <a:chExt cx="381960" cy="533160"/>
          </a:xfrm>
        </p:grpSpPr>
        <p:grpSp>
          <p:nvGrpSpPr>
            <p:cNvPr id="129" name=""/>
            <p:cNvGrpSpPr/>
            <p:nvPr/>
          </p:nvGrpSpPr>
          <p:grpSpPr>
            <a:xfrm>
              <a:off x="1593000" y="7632360"/>
              <a:ext cx="312120" cy="228600"/>
              <a:chOff x="1593000" y="7632360"/>
              <a:chExt cx="312120" cy="228600"/>
            </a:xfrm>
          </p:grpSpPr>
          <p:sp>
            <p:nvSpPr>
              <p:cNvPr id="130" name=""/>
              <p:cNvSpPr/>
              <p:nvPr/>
            </p:nvSpPr>
            <p:spPr>
              <a:xfrm>
                <a:off x="1697040" y="763236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93000" y="778464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1523160" y="7518240"/>
              <a:ext cx="243360" cy="533160"/>
              <a:chOff x="1523160" y="7518240"/>
              <a:chExt cx="243360" cy="533160"/>
            </a:xfrm>
          </p:grpSpPr>
          <p:sp>
            <p:nvSpPr>
              <p:cNvPr id="133" name=""/>
              <p:cNvSpPr/>
              <p:nvPr/>
            </p:nvSpPr>
            <p:spPr>
              <a:xfrm>
                <a:off x="1558440" y="751824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4" name=""/>
              <p:cNvCxnSpPr>
                <a:stCxn id="133" idx="4"/>
              </p:cNvCxnSpPr>
              <p:nvPr/>
            </p:nvCxnSpPr>
            <p:spPr>
              <a:xfrm>
                <a:off x="1627920" y="767052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5" name=""/>
              <p:cNvCxnSpPr>
                <a:stCxn id="133" idx="4"/>
              </p:cNvCxnSpPr>
              <p:nvPr/>
            </p:nvCxnSpPr>
            <p:spPr>
              <a:xfrm>
                <a:off x="1627920" y="767052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6" name=""/>
              <p:cNvCxnSpPr>
                <a:stCxn id="133" idx="4"/>
              </p:cNvCxnSpPr>
              <p:nvPr/>
            </p:nvCxnSpPr>
            <p:spPr>
              <a:xfrm flipH="1">
                <a:off x="1523160" y="767052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" name=""/>
              <p:cNvCxnSpPr/>
              <p:nvPr/>
            </p:nvCxnSpPr>
            <p:spPr>
              <a:xfrm flipH="1">
                <a:off x="1558080" y="789876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8" name=""/>
              <p:cNvCxnSpPr/>
              <p:nvPr/>
            </p:nvCxnSpPr>
            <p:spPr>
              <a:xfrm>
                <a:off x="1627560" y="789876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50" name=""/>
          <p:cNvSpPr/>
          <p:nvPr/>
        </p:nvSpPr>
        <p:spPr>
          <a:xfrm>
            <a:off x="2895480" y="3886200"/>
            <a:ext cx="13338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rectory-based distributed 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43" idx="1"/>
            <a:endCxn id="45" idx="3"/>
          </p:cNvCxnSpPr>
          <p:nvPr/>
        </p:nvCxnSpPr>
        <p:spPr>
          <a:xfrm flipH="1" flipV="1">
            <a:off x="2133720" y="1139040"/>
            <a:ext cx="914760" cy="5112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43" idx="1"/>
            <a:endCxn id="80" idx="3"/>
          </p:cNvCxnSpPr>
          <p:nvPr/>
        </p:nvCxnSpPr>
        <p:spPr>
          <a:xfrm flipH="1">
            <a:off x="1905120" y="1189800"/>
            <a:ext cx="1143360" cy="44856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50" idx="1"/>
          </p:cNvCxnSpPr>
          <p:nvPr/>
        </p:nvCxnSpPr>
        <p:spPr>
          <a:xfrm flipH="1" flipV="1">
            <a:off x="2133360" y="4114080"/>
            <a:ext cx="762480" cy="4788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50" idx="1"/>
          </p:cNvCxnSpPr>
          <p:nvPr/>
        </p:nvCxnSpPr>
        <p:spPr>
          <a:xfrm flipH="1">
            <a:off x="1904400" y="4161600"/>
            <a:ext cx="991440" cy="44892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363040" y="39625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85345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6. General model for AMHS MD and addressing information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134800" y="1967040"/>
            <a:ext cx="107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y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1941480"/>
            <a:ext cx="12952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7200" y="3541680"/>
            <a:ext cx="838080" cy="312840"/>
            <a:chOff x="457200" y="3541680"/>
            <a:chExt cx="838080" cy="312840"/>
          </a:xfrm>
        </p:grpSpPr>
        <p:sp>
          <p:nvSpPr>
            <p:cNvPr id="148" name=""/>
            <p:cNvSpPr/>
            <p:nvPr/>
          </p:nvSpPr>
          <p:spPr>
            <a:xfrm>
              <a:off x="520200" y="3578040"/>
              <a:ext cx="64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" y="3541680"/>
              <a:ext cx="83808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505320" y="3389400"/>
            <a:ext cx="1082520" cy="496800"/>
            <a:chOff x="3505320" y="3389400"/>
            <a:chExt cx="1082520" cy="496800"/>
          </a:xfrm>
        </p:grpSpPr>
        <p:sp>
          <p:nvSpPr>
            <p:cNvPr id="151" name=""/>
            <p:cNvSpPr/>
            <p:nvPr/>
          </p:nvSpPr>
          <p:spPr>
            <a:xfrm>
              <a:off x="3585240" y="3490920"/>
              <a:ext cx="94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05320" y="3389400"/>
              <a:ext cx="1082520" cy="496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990720" y="6437160"/>
            <a:ext cx="1600200" cy="579240"/>
            <a:chOff x="990720" y="6437160"/>
            <a:chExt cx="1600200" cy="579240"/>
          </a:xfrm>
        </p:grpSpPr>
        <p:sp>
          <p:nvSpPr>
            <p:cNvPr id="154" name=""/>
            <p:cNvSpPr/>
            <p:nvPr/>
          </p:nvSpPr>
          <p:spPr>
            <a:xfrm>
              <a:off x="1145880" y="6513120"/>
              <a:ext cx="106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tn-Amhs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90720" y="6437160"/>
              <a:ext cx="1600200" cy="57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057400" y="4456080"/>
            <a:ext cx="1523880" cy="380880"/>
            <a:chOff x="2057400" y="4456080"/>
            <a:chExt cx="1523880" cy="380880"/>
          </a:xfrm>
        </p:grpSpPr>
        <p:sp>
          <p:nvSpPr>
            <p:cNvPr id="157" name=""/>
            <p:cNvSpPr/>
            <p:nvPr/>
          </p:nvSpPr>
          <p:spPr>
            <a:xfrm>
              <a:off x="2122200" y="4492440"/>
              <a:ext cx="121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tn-Organ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57400" y="4456080"/>
              <a:ext cx="1523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181480" y="5446800"/>
            <a:ext cx="1295640" cy="380880"/>
            <a:chOff x="5181480" y="5446800"/>
            <a:chExt cx="1295640" cy="380880"/>
          </a:xfrm>
        </p:grpSpPr>
        <p:sp>
          <p:nvSpPr>
            <p:cNvPr id="160" name=""/>
            <p:cNvSpPr/>
            <p:nvPr/>
          </p:nvSpPr>
          <p:spPr>
            <a:xfrm>
              <a:off x="5243760" y="5483160"/>
              <a:ext cx="102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tn-AmhsM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81480" y="5446800"/>
              <a:ext cx="12956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2" name=""/>
          <p:cNvCxnSpPr>
            <a:stCxn id="146" idx="3"/>
            <a:endCxn id="149" idx="7"/>
          </p:cNvCxnSpPr>
          <p:nvPr/>
        </p:nvCxnSpPr>
        <p:spPr>
          <a:xfrm flipH="1">
            <a:off x="1172880" y="2461680"/>
            <a:ext cx="1073520" cy="112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46" idx="5"/>
            <a:endCxn id="152" idx="0"/>
          </p:cNvCxnSpPr>
          <p:nvPr/>
        </p:nvCxnSpPr>
        <p:spPr>
          <a:xfrm>
            <a:off x="3163680" y="2462040"/>
            <a:ext cx="883080" cy="92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48" idx="2"/>
            <a:endCxn id="158" idx="1"/>
          </p:cNvCxnSpPr>
          <p:nvPr/>
        </p:nvCxnSpPr>
        <p:spPr>
          <a:xfrm>
            <a:off x="842760" y="3852720"/>
            <a:ext cx="1438920" cy="65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8" idx="4"/>
            <a:endCxn id="155" idx="0"/>
          </p:cNvCxnSpPr>
          <p:nvPr/>
        </p:nvCxnSpPr>
        <p:spPr>
          <a:xfrm flipH="1">
            <a:off x="1790280" y="4836600"/>
            <a:ext cx="102960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2" idx="4"/>
            <a:endCxn id="158" idx="0"/>
          </p:cNvCxnSpPr>
          <p:nvPr/>
        </p:nvCxnSpPr>
        <p:spPr>
          <a:xfrm flipH="1">
            <a:off x="2819520" y="3885840"/>
            <a:ext cx="1227240" cy="57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2" idx="5"/>
            <a:endCxn id="161" idx="0"/>
          </p:cNvCxnSpPr>
          <p:nvPr/>
        </p:nvCxnSpPr>
        <p:spPr>
          <a:xfrm>
            <a:off x="4429080" y="3813120"/>
            <a:ext cx="1400760" cy="163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8" name=""/>
          <p:cNvGrpSpPr/>
          <p:nvPr/>
        </p:nvGrpSpPr>
        <p:grpSpPr>
          <a:xfrm>
            <a:off x="3048120" y="6437160"/>
            <a:ext cx="2135160" cy="609480"/>
            <a:chOff x="3048120" y="6437160"/>
            <a:chExt cx="2135160" cy="609480"/>
          </a:xfrm>
        </p:grpSpPr>
        <p:sp>
          <p:nvSpPr>
            <p:cNvPr id="169" name=""/>
            <p:cNvSpPr/>
            <p:nvPr/>
          </p:nvSpPr>
          <p:spPr>
            <a:xfrm>
              <a:off x="3101400" y="6592680"/>
              <a:ext cx="175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tn-AmhsDistribution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48120" y="6437160"/>
              <a:ext cx="213516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1" name=""/>
          <p:cNvCxnSpPr>
            <a:stCxn id="158" idx="4"/>
            <a:endCxn id="170" idx="0"/>
          </p:cNvCxnSpPr>
          <p:nvPr/>
        </p:nvCxnSpPr>
        <p:spPr>
          <a:xfrm>
            <a:off x="2819520" y="4836600"/>
            <a:ext cx="129744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533880" y="7848720"/>
            <a:ext cx="587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7.  ATN simplified DIT structure in support of AMHS address convers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629080" y="507960"/>
            <a:ext cx="11998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HS Directory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8880" y="1544760"/>
            <a:ext cx="689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NA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68360" y="1695600"/>
            <a:ext cx="5144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=F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11040" y="1593720"/>
            <a:ext cx="513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=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53360" y="1695600"/>
            <a:ext cx="999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Euro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0" y="1593720"/>
            <a:ext cx="1409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=ICAO-MD-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280" y="4673520"/>
            <a:ext cx="10620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=LF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tn-Facility=LFB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07000" y="3987720"/>
            <a:ext cx="6685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LFB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9320" y="3987720"/>
            <a:ext cx="698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LFQ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79320" y="4597560"/>
            <a:ext cx="6958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EB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02600" y="5689440"/>
            <a:ext cx="26938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N=EBBDZMF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mhs-or-address=/C=XX/A=ICAO/P=Eurocontrol-CFMU/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O=CFMU-HAREN/OU=EBBD/CN=EBBDZMF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F-address=EBBDZMF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4720" y="3378240"/>
            <a:ext cx="734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EG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6320" y="7010280"/>
            <a:ext cx="2161800" cy="112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N=LFCIZPZ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mhs-or-address=/C=XX/A=ICAO/P=France/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O=LFBO/OU=LFCI/CN=LFCIZPZ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F-address=LFCIZPZ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cidin-mc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x-or-primary-Ax-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x-second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2040" y="1195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26160" y="139860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69200" y="129708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03320" y="132084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32120" y="121932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3320" y="4165560"/>
            <a:ext cx="1287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N= C=FR;O=LF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960" y="6400800"/>
            <a:ext cx="217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AmhsUser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N= C=FR;O=LFCI;CN=LFCIZPZ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53760" y="5079960"/>
            <a:ext cx="281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AmhsUser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N= O=Eurocontrol;O=EBBD;CN=EBBDZMF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10560" y="2133720"/>
            <a:ext cx="15339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N=CF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global-domain-identifier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C=XX/A=ICAO/P=CFM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icao-country-code=EBB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mhsMD-namingcontext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"O=Eurocontrol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mhs-addr-scheme=ca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10560" y="3733920"/>
            <a:ext cx="15339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N=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global-domain-identifier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C=XX/A=ICAO/P=Fr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icao-country-code=L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mhsMD-namingcontext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"C=FR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mhs-addr-scheme=ca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73" idx="2"/>
            <a:endCxn id="186" idx="2"/>
          </p:cNvCxnSpPr>
          <p:nvPr/>
        </p:nvCxnSpPr>
        <p:spPr>
          <a:xfrm flipH="1">
            <a:off x="840960" y="1130040"/>
            <a:ext cx="238824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73" idx="2"/>
            <a:endCxn id="175" idx="0"/>
          </p:cNvCxnSpPr>
          <p:nvPr/>
        </p:nvCxnSpPr>
        <p:spPr>
          <a:xfrm flipH="1">
            <a:off x="1625040" y="1130400"/>
            <a:ext cx="1603800" cy="56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" name=""/>
          <p:cNvCxnSpPr>
            <a:stCxn id="173" idx="2"/>
            <a:endCxn id="176" idx="0"/>
          </p:cNvCxnSpPr>
          <p:nvPr/>
        </p:nvCxnSpPr>
        <p:spPr>
          <a:xfrm flipH="1">
            <a:off x="2368080" y="1130040"/>
            <a:ext cx="861120" cy="46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73" idx="2"/>
            <a:endCxn id="177" idx="0"/>
          </p:cNvCxnSpPr>
          <p:nvPr/>
        </p:nvCxnSpPr>
        <p:spPr>
          <a:xfrm>
            <a:off x="3228840" y="1130400"/>
            <a:ext cx="124560" cy="56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0" name=""/>
          <p:cNvSpPr/>
          <p:nvPr/>
        </p:nvSpPr>
        <p:spPr>
          <a:xfrm>
            <a:off x="3200400" y="1117440"/>
            <a:ext cx="743040" cy="50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1117440"/>
            <a:ext cx="1028880" cy="50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0"/>
            <a:endCxn id="178" idx="0"/>
          </p:cNvCxnSpPr>
          <p:nvPr/>
        </p:nvCxnSpPr>
        <p:spPr>
          <a:xfrm>
            <a:off x="3200040" y="1117080"/>
            <a:ext cx="218844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74" idx="2"/>
            <a:endCxn id="184" idx="0"/>
          </p:cNvCxnSpPr>
          <p:nvPr/>
        </p:nvCxnSpPr>
        <p:spPr>
          <a:xfrm flipH="1">
            <a:off x="600840" y="1798560"/>
            <a:ext cx="322920" cy="1580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-25200" y="304812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175" idx="2"/>
            <a:endCxn id="179" idx="0"/>
          </p:cNvCxnSpPr>
          <p:nvPr/>
        </p:nvCxnSpPr>
        <p:spPr>
          <a:xfrm flipH="1">
            <a:off x="1331640" y="1949040"/>
            <a:ext cx="294480" cy="2724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75" idx="2"/>
            <a:endCxn id="180" idx="0"/>
          </p:cNvCxnSpPr>
          <p:nvPr/>
        </p:nvCxnSpPr>
        <p:spPr>
          <a:xfrm>
            <a:off x="1625760" y="1949400"/>
            <a:ext cx="716400" cy="2039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75" idx="2"/>
            <a:endCxn id="181" idx="0"/>
          </p:cNvCxnSpPr>
          <p:nvPr/>
        </p:nvCxnSpPr>
        <p:spPr>
          <a:xfrm>
            <a:off x="1625760" y="1949400"/>
            <a:ext cx="1473840" cy="2039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1314360" y="5283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714480" y="4876920"/>
            <a:ext cx="19080" cy="81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171520" y="1905120"/>
            <a:ext cx="114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0" y="1905120"/>
            <a:ext cx="1144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1905120"/>
            <a:ext cx="3999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360" y="350532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Amhs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7000" y="190512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Amhs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177" idx="2"/>
            <a:endCxn id="182" idx="0"/>
          </p:cNvCxnSpPr>
          <p:nvPr/>
        </p:nvCxnSpPr>
        <p:spPr>
          <a:xfrm>
            <a:off x="3352320" y="1949400"/>
            <a:ext cx="375480" cy="2648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6" name=""/>
          <p:cNvSpPr/>
          <p:nvPr/>
        </p:nvSpPr>
        <p:spPr>
          <a:xfrm flipH="1">
            <a:off x="419040" y="3657600"/>
            <a:ext cx="1144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3657600"/>
            <a:ext cx="114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171520" y="4267080"/>
            <a:ext cx="114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4267080"/>
            <a:ext cx="1144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819520" y="4267080"/>
            <a:ext cx="17136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90880" y="4267080"/>
            <a:ext cx="11412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81280" y="1265400"/>
            <a:ext cx="3154320" cy="5489280"/>
          </a:xfrm>
          <a:custGeom>
            <a:avLst/>
            <a:gdLst/>
            <a:ahLst/>
            <a:rect l="l" t="t" r="r" b="b"/>
            <a:pathLst>
              <a:path w="2649" h="2593">
                <a:moveTo>
                  <a:pt x="502" y="11"/>
                </a:moveTo>
                <a:cubicBezTo>
                  <a:pt x="397" y="37"/>
                  <a:pt x="556" y="0"/>
                  <a:pt x="311" y="29"/>
                </a:cubicBezTo>
                <a:cubicBezTo>
                  <a:pt x="286" y="32"/>
                  <a:pt x="239" y="47"/>
                  <a:pt x="239" y="47"/>
                </a:cubicBezTo>
                <a:cubicBezTo>
                  <a:pt x="212" y="66"/>
                  <a:pt x="184" y="75"/>
                  <a:pt x="157" y="93"/>
                </a:cubicBezTo>
                <a:cubicBezTo>
                  <a:pt x="109" y="164"/>
                  <a:pt x="127" y="127"/>
                  <a:pt x="102" y="202"/>
                </a:cubicBezTo>
                <a:cubicBezTo>
                  <a:pt x="99" y="211"/>
                  <a:pt x="93" y="229"/>
                  <a:pt x="93" y="229"/>
                </a:cubicBezTo>
                <a:cubicBezTo>
                  <a:pt x="101" y="355"/>
                  <a:pt x="95" y="392"/>
                  <a:pt x="157" y="484"/>
                </a:cubicBezTo>
                <a:cubicBezTo>
                  <a:pt x="165" y="496"/>
                  <a:pt x="175" y="508"/>
                  <a:pt x="184" y="520"/>
                </a:cubicBezTo>
                <a:cubicBezTo>
                  <a:pt x="196" y="538"/>
                  <a:pt x="220" y="575"/>
                  <a:pt x="220" y="575"/>
                </a:cubicBezTo>
                <a:cubicBezTo>
                  <a:pt x="240" y="647"/>
                  <a:pt x="285" y="732"/>
                  <a:pt x="339" y="784"/>
                </a:cubicBezTo>
                <a:cubicBezTo>
                  <a:pt x="360" y="825"/>
                  <a:pt x="384" y="869"/>
                  <a:pt x="402" y="911"/>
                </a:cubicBezTo>
                <a:cubicBezTo>
                  <a:pt x="435" y="986"/>
                  <a:pt x="401" y="948"/>
                  <a:pt x="439" y="984"/>
                </a:cubicBezTo>
                <a:cubicBezTo>
                  <a:pt x="463" y="1055"/>
                  <a:pt x="430" y="964"/>
                  <a:pt x="466" y="1038"/>
                </a:cubicBezTo>
                <a:cubicBezTo>
                  <a:pt x="473" y="1052"/>
                  <a:pt x="480" y="1089"/>
                  <a:pt x="484" y="1102"/>
                </a:cubicBezTo>
                <a:cubicBezTo>
                  <a:pt x="505" y="1172"/>
                  <a:pt x="530" y="1240"/>
                  <a:pt x="548" y="1311"/>
                </a:cubicBezTo>
                <a:cubicBezTo>
                  <a:pt x="543" y="1446"/>
                  <a:pt x="582" y="1647"/>
                  <a:pt x="411" y="1702"/>
                </a:cubicBezTo>
                <a:cubicBezTo>
                  <a:pt x="334" y="1753"/>
                  <a:pt x="268" y="1767"/>
                  <a:pt x="175" y="1775"/>
                </a:cubicBezTo>
                <a:cubicBezTo>
                  <a:pt x="129" y="1790"/>
                  <a:pt x="86" y="1829"/>
                  <a:pt x="66" y="1875"/>
                </a:cubicBezTo>
                <a:cubicBezTo>
                  <a:pt x="47" y="1917"/>
                  <a:pt x="46" y="1947"/>
                  <a:pt x="20" y="1984"/>
                </a:cubicBezTo>
                <a:cubicBezTo>
                  <a:pt x="0" y="2064"/>
                  <a:pt x="2" y="2046"/>
                  <a:pt x="2" y="2184"/>
                </a:cubicBezTo>
                <a:cubicBezTo>
                  <a:pt x="2" y="2272"/>
                  <a:pt x="0" y="2361"/>
                  <a:pt x="11" y="2448"/>
                </a:cubicBezTo>
                <a:cubicBezTo>
                  <a:pt x="12" y="2453"/>
                  <a:pt x="94" y="2506"/>
                  <a:pt x="102" y="2511"/>
                </a:cubicBezTo>
                <a:cubicBezTo>
                  <a:pt x="198" y="2565"/>
                  <a:pt x="341" y="2570"/>
                  <a:pt x="448" y="2575"/>
                </a:cubicBezTo>
                <a:cubicBezTo>
                  <a:pt x="527" y="2579"/>
                  <a:pt x="605" y="2581"/>
                  <a:pt x="684" y="2584"/>
                </a:cubicBezTo>
                <a:cubicBezTo>
                  <a:pt x="787" y="2587"/>
                  <a:pt x="890" y="2590"/>
                  <a:pt x="993" y="2593"/>
                </a:cubicBezTo>
                <a:cubicBezTo>
                  <a:pt x="1384" y="2590"/>
                  <a:pt x="1775" y="2592"/>
                  <a:pt x="2166" y="2584"/>
                </a:cubicBezTo>
                <a:cubicBezTo>
                  <a:pt x="2235" y="2583"/>
                  <a:pt x="2315" y="2545"/>
                  <a:pt x="2384" y="2539"/>
                </a:cubicBezTo>
                <a:cubicBezTo>
                  <a:pt x="2427" y="2494"/>
                  <a:pt x="2374" y="2544"/>
                  <a:pt x="2429" y="2511"/>
                </a:cubicBezTo>
                <a:cubicBezTo>
                  <a:pt x="2467" y="2488"/>
                  <a:pt x="2510" y="2456"/>
                  <a:pt x="2538" y="2420"/>
                </a:cubicBezTo>
                <a:cubicBezTo>
                  <a:pt x="2556" y="2396"/>
                  <a:pt x="2593" y="2348"/>
                  <a:pt x="2593" y="2348"/>
                </a:cubicBezTo>
                <a:cubicBezTo>
                  <a:pt x="2606" y="2246"/>
                  <a:pt x="2649" y="2105"/>
                  <a:pt x="2547" y="2039"/>
                </a:cubicBezTo>
                <a:cubicBezTo>
                  <a:pt x="2478" y="1932"/>
                  <a:pt x="2292" y="1927"/>
                  <a:pt x="2184" y="1920"/>
                </a:cubicBezTo>
                <a:cubicBezTo>
                  <a:pt x="2097" y="1908"/>
                  <a:pt x="2006" y="1894"/>
                  <a:pt x="1920" y="1875"/>
                </a:cubicBezTo>
                <a:cubicBezTo>
                  <a:pt x="1883" y="1867"/>
                  <a:pt x="1811" y="1848"/>
                  <a:pt x="1811" y="1848"/>
                </a:cubicBezTo>
                <a:cubicBezTo>
                  <a:pt x="1773" y="1822"/>
                  <a:pt x="1736" y="1825"/>
                  <a:pt x="1693" y="1811"/>
                </a:cubicBezTo>
                <a:cubicBezTo>
                  <a:pt x="1501" y="1748"/>
                  <a:pt x="1632" y="1782"/>
                  <a:pt x="1493" y="1748"/>
                </a:cubicBezTo>
                <a:cubicBezTo>
                  <a:pt x="1436" y="1688"/>
                  <a:pt x="1539" y="1789"/>
                  <a:pt x="1420" y="1720"/>
                </a:cubicBezTo>
                <a:cubicBezTo>
                  <a:pt x="1398" y="1707"/>
                  <a:pt x="1385" y="1682"/>
                  <a:pt x="1366" y="1666"/>
                </a:cubicBezTo>
                <a:cubicBezTo>
                  <a:pt x="1346" y="1649"/>
                  <a:pt x="1302" y="1620"/>
                  <a:pt x="1302" y="1620"/>
                </a:cubicBezTo>
                <a:cubicBezTo>
                  <a:pt x="1291" y="1598"/>
                  <a:pt x="1272" y="1580"/>
                  <a:pt x="1266" y="1557"/>
                </a:cubicBezTo>
                <a:cubicBezTo>
                  <a:pt x="1236" y="1446"/>
                  <a:pt x="1238" y="1324"/>
                  <a:pt x="1211" y="1211"/>
                </a:cubicBezTo>
                <a:cubicBezTo>
                  <a:pt x="1207" y="1092"/>
                  <a:pt x="1229" y="878"/>
                  <a:pt x="1148" y="757"/>
                </a:cubicBezTo>
                <a:cubicBezTo>
                  <a:pt x="1133" y="697"/>
                  <a:pt x="1111" y="648"/>
                  <a:pt x="1084" y="593"/>
                </a:cubicBezTo>
                <a:cubicBezTo>
                  <a:pt x="1067" y="558"/>
                  <a:pt x="1061" y="513"/>
                  <a:pt x="1048" y="475"/>
                </a:cubicBezTo>
                <a:cubicBezTo>
                  <a:pt x="1008" y="354"/>
                  <a:pt x="943" y="240"/>
                  <a:pt x="848" y="157"/>
                </a:cubicBezTo>
                <a:cubicBezTo>
                  <a:pt x="828" y="139"/>
                  <a:pt x="803" y="105"/>
                  <a:pt x="775" y="93"/>
                </a:cubicBezTo>
                <a:cubicBezTo>
                  <a:pt x="755" y="84"/>
                  <a:pt x="731" y="84"/>
                  <a:pt x="711" y="75"/>
                </a:cubicBezTo>
                <a:cubicBezTo>
                  <a:pt x="644" y="47"/>
                  <a:pt x="573" y="28"/>
                  <a:pt x="502" y="1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14760" y="903240"/>
            <a:ext cx="2293920" cy="4729320"/>
          </a:xfrm>
          <a:custGeom>
            <a:avLst/>
            <a:gdLst/>
            <a:ahLst/>
            <a:rect l="l" t="t" r="r" b="b"/>
            <a:pathLst>
              <a:path w="1926" h="2234">
                <a:moveTo>
                  <a:pt x="517" y="0"/>
                </a:moveTo>
                <a:cubicBezTo>
                  <a:pt x="378" y="27"/>
                  <a:pt x="457" y="16"/>
                  <a:pt x="280" y="28"/>
                </a:cubicBezTo>
                <a:cubicBezTo>
                  <a:pt x="259" y="31"/>
                  <a:pt x="237" y="31"/>
                  <a:pt x="217" y="37"/>
                </a:cubicBezTo>
                <a:cubicBezTo>
                  <a:pt x="171" y="51"/>
                  <a:pt x="161" y="103"/>
                  <a:pt x="117" y="118"/>
                </a:cubicBezTo>
                <a:cubicBezTo>
                  <a:pt x="105" y="156"/>
                  <a:pt x="76" y="183"/>
                  <a:pt x="53" y="218"/>
                </a:cubicBezTo>
                <a:cubicBezTo>
                  <a:pt x="47" y="227"/>
                  <a:pt x="35" y="246"/>
                  <a:pt x="35" y="246"/>
                </a:cubicBezTo>
                <a:cubicBezTo>
                  <a:pt x="10" y="348"/>
                  <a:pt x="19" y="294"/>
                  <a:pt x="8" y="409"/>
                </a:cubicBezTo>
                <a:cubicBezTo>
                  <a:pt x="15" y="600"/>
                  <a:pt x="0" y="814"/>
                  <a:pt x="89" y="991"/>
                </a:cubicBezTo>
                <a:cubicBezTo>
                  <a:pt x="98" y="1026"/>
                  <a:pt x="115" y="1048"/>
                  <a:pt x="126" y="1082"/>
                </a:cubicBezTo>
                <a:cubicBezTo>
                  <a:pt x="136" y="1143"/>
                  <a:pt x="157" y="1177"/>
                  <a:pt x="189" y="1228"/>
                </a:cubicBezTo>
                <a:cubicBezTo>
                  <a:pt x="228" y="1289"/>
                  <a:pt x="264" y="1358"/>
                  <a:pt x="317" y="1409"/>
                </a:cubicBezTo>
                <a:cubicBezTo>
                  <a:pt x="336" y="1449"/>
                  <a:pt x="363" y="1474"/>
                  <a:pt x="389" y="1509"/>
                </a:cubicBezTo>
                <a:cubicBezTo>
                  <a:pt x="403" y="1554"/>
                  <a:pt x="441" y="1583"/>
                  <a:pt x="471" y="1619"/>
                </a:cubicBezTo>
                <a:cubicBezTo>
                  <a:pt x="508" y="1663"/>
                  <a:pt x="539" y="1704"/>
                  <a:pt x="580" y="1746"/>
                </a:cubicBezTo>
                <a:cubicBezTo>
                  <a:pt x="684" y="1852"/>
                  <a:pt x="569" y="1766"/>
                  <a:pt x="644" y="1819"/>
                </a:cubicBezTo>
                <a:cubicBezTo>
                  <a:pt x="678" y="1870"/>
                  <a:pt x="720" y="1930"/>
                  <a:pt x="771" y="1964"/>
                </a:cubicBezTo>
                <a:cubicBezTo>
                  <a:pt x="791" y="1993"/>
                  <a:pt x="806" y="2008"/>
                  <a:pt x="835" y="2028"/>
                </a:cubicBezTo>
                <a:cubicBezTo>
                  <a:pt x="874" y="2087"/>
                  <a:pt x="829" y="2030"/>
                  <a:pt x="880" y="2064"/>
                </a:cubicBezTo>
                <a:cubicBezTo>
                  <a:pt x="948" y="2109"/>
                  <a:pt x="871" y="2079"/>
                  <a:pt x="935" y="2100"/>
                </a:cubicBezTo>
                <a:cubicBezTo>
                  <a:pt x="975" y="2142"/>
                  <a:pt x="1102" y="2166"/>
                  <a:pt x="1162" y="2173"/>
                </a:cubicBezTo>
                <a:cubicBezTo>
                  <a:pt x="1220" y="2180"/>
                  <a:pt x="1335" y="2191"/>
                  <a:pt x="1335" y="2191"/>
                </a:cubicBezTo>
                <a:cubicBezTo>
                  <a:pt x="1479" y="2187"/>
                  <a:pt x="1626" y="2234"/>
                  <a:pt x="1744" y="2155"/>
                </a:cubicBezTo>
                <a:cubicBezTo>
                  <a:pt x="1783" y="2096"/>
                  <a:pt x="1804" y="2040"/>
                  <a:pt x="1826" y="1973"/>
                </a:cubicBezTo>
                <a:cubicBezTo>
                  <a:pt x="1833" y="1921"/>
                  <a:pt x="1846" y="1871"/>
                  <a:pt x="1853" y="1819"/>
                </a:cubicBezTo>
                <a:cubicBezTo>
                  <a:pt x="1865" y="1725"/>
                  <a:pt x="1866" y="1630"/>
                  <a:pt x="1889" y="1537"/>
                </a:cubicBezTo>
                <a:cubicBezTo>
                  <a:pt x="1901" y="1430"/>
                  <a:pt x="1918" y="1326"/>
                  <a:pt x="1926" y="1219"/>
                </a:cubicBezTo>
                <a:cubicBezTo>
                  <a:pt x="1923" y="1025"/>
                  <a:pt x="1925" y="831"/>
                  <a:pt x="1916" y="637"/>
                </a:cubicBezTo>
                <a:cubicBezTo>
                  <a:pt x="1915" y="618"/>
                  <a:pt x="1902" y="601"/>
                  <a:pt x="1898" y="582"/>
                </a:cubicBezTo>
                <a:cubicBezTo>
                  <a:pt x="1869" y="436"/>
                  <a:pt x="1804" y="313"/>
                  <a:pt x="1689" y="218"/>
                </a:cubicBezTo>
                <a:cubicBezTo>
                  <a:pt x="1655" y="190"/>
                  <a:pt x="1608" y="170"/>
                  <a:pt x="1571" y="146"/>
                </a:cubicBezTo>
                <a:cubicBezTo>
                  <a:pt x="1547" y="130"/>
                  <a:pt x="1513" y="134"/>
                  <a:pt x="1489" y="118"/>
                </a:cubicBezTo>
                <a:cubicBezTo>
                  <a:pt x="1463" y="100"/>
                  <a:pt x="1431" y="76"/>
                  <a:pt x="1398" y="73"/>
                </a:cubicBezTo>
                <a:cubicBezTo>
                  <a:pt x="1220" y="55"/>
                  <a:pt x="1040" y="59"/>
                  <a:pt x="862" y="37"/>
                </a:cubicBezTo>
                <a:cubicBezTo>
                  <a:pt x="741" y="5"/>
                  <a:pt x="650" y="0"/>
                  <a:pt x="517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90720" y="1116000"/>
            <a:ext cx="977760" cy="1847880"/>
          </a:xfrm>
          <a:custGeom>
            <a:avLst/>
            <a:gdLst/>
            <a:ahLst/>
            <a:rect l="l" t="t" r="r" b="b"/>
            <a:pathLst>
              <a:path w="821" h="873">
                <a:moveTo>
                  <a:pt x="330" y="0"/>
                </a:moveTo>
                <a:cubicBezTo>
                  <a:pt x="278" y="10"/>
                  <a:pt x="251" y="21"/>
                  <a:pt x="212" y="55"/>
                </a:cubicBezTo>
                <a:cubicBezTo>
                  <a:pt x="196" y="69"/>
                  <a:pt x="166" y="100"/>
                  <a:pt x="166" y="100"/>
                </a:cubicBezTo>
                <a:cubicBezTo>
                  <a:pt x="149" y="152"/>
                  <a:pt x="164" y="122"/>
                  <a:pt x="103" y="182"/>
                </a:cubicBezTo>
                <a:cubicBezTo>
                  <a:pt x="94" y="191"/>
                  <a:pt x="75" y="209"/>
                  <a:pt x="75" y="209"/>
                </a:cubicBezTo>
                <a:cubicBezTo>
                  <a:pt x="72" y="221"/>
                  <a:pt x="70" y="234"/>
                  <a:pt x="66" y="246"/>
                </a:cubicBezTo>
                <a:cubicBezTo>
                  <a:pt x="61" y="264"/>
                  <a:pt x="48" y="300"/>
                  <a:pt x="48" y="300"/>
                </a:cubicBezTo>
                <a:cubicBezTo>
                  <a:pt x="50" y="355"/>
                  <a:pt x="0" y="682"/>
                  <a:pt x="139" y="728"/>
                </a:cubicBezTo>
                <a:cubicBezTo>
                  <a:pt x="223" y="812"/>
                  <a:pt x="321" y="837"/>
                  <a:pt x="430" y="873"/>
                </a:cubicBezTo>
                <a:cubicBezTo>
                  <a:pt x="503" y="870"/>
                  <a:pt x="576" y="872"/>
                  <a:pt x="648" y="864"/>
                </a:cubicBezTo>
                <a:cubicBezTo>
                  <a:pt x="681" y="860"/>
                  <a:pt x="725" y="805"/>
                  <a:pt x="739" y="791"/>
                </a:cubicBezTo>
                <a:cubicBezTo>
                  <a:pt x="748" y="782"/>
                  <a:pt x="766" y="764"/>
                  <a:pt x="766" y="764"/>
                </a:cubicBezTo>
                <a:cubicBezTo>
                  <a:pt x="794" y="590"/>
                  <a:pt x="754" y="802"/>
                  <a:pt x="794" y="673"/>
                </a:cubicBezTo>
                <a:cubicBezTo>
                  <a:pt x="810" y="620"/>
                  <a:pt x="808" y="563"/>
                  <a:pt x="821" y="509"/>
                </a:cubicBezTo>
                <a:cubicBezTo>
                  <a:pt x="818" y="446"/>
                  <a:pt x="819" y="382"/>
                  <a:pt x="812" y="319"/>
                </a:cubicBezTo>
                <a:cubicBezTo>
                  <a:pt x="807" y="276"/>
                  <a:pt x="764" y="241"/>
                  <a:pt x="739" y="209"/>
                </a:cubicBezTo>
                <a:cubicBezTo>
                  <a:pt x="685" y="140"/>
                  <a:pt x="636" y="97"/>
                  <a:pt x="575" y="37"/>
                </a:cubicBezTo>
                <a:cubicBezTo>
                  <a:pt x="561" y="24"/>
                  <a:pt x="540" y="22"/>
                  <a:pt x="521" y="18"/>
                </a:cubicBezTo>
                <a:cubicBezTo>
                  <a:pt x="453" y="2"/>
                  <a:pt x="402" y="0"/>
                  <a:pt x="33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9880" y="1211400"/>
            <a:ext cx="2870280" cy="7486560"/>
          </a:xfrm>
          <a:custGeom>
            <a:avLst/>
            <a:gdLst/>
            <a:ahLst/>
            <a:rect l="l" t="t" r="r" b="b"/>
            <a:pathLst>
              <a:path w="2411" h="3537">
                <a:moveTo>
                  <a:pt x="1175" y="1"/>
                </a:moveTo>
                <a:cubicBezTo>
                  <a:pt x="1084" y="9"/>
                  <a:pt x="1057" y="14"/>
                  <a:pt x="984" y="55"/>
                </a:cubicBezTo>
                <a:cubicBezTo>
                  <a:pt x="956" y="71"/>
                  <a:pt x="912" y="119"/>
                  <a:pt x="912" y="119"/>
                </a:cubicBezTo>
                <a:cubicBezTo>
                  <a:pt x="892" y="174"/>
                  <a:pt x="917" y="121"/>
                  <a:pt x="875" y="164"/>
                </a:cubicBezTo>
                <a:cubicBezTo>
                  <a:pt x="850" y="190"/>
                  <a:pt x="825" y="226"/>
                  <a:pt x="802" y="255"/>
                </a:cubicBezTo>
                <a:cubicBezTo>
                  <a:pt x="791" y="289"/>
                  <a:pt x="770" y="313"/>
                  <a:pt x="757" y="346"/>
                </a:cubicBezTo>
                <a:cubicBezTo>
                  <a:pt x="734" y="404"/>
                  <a:pt x="716" y="468"/>
                  <a:pt x="702" y="528"/>
                </a:cubicBezTo>
                <a:cubicBezTo>
                  <a:pt x="679" y="625"/>
                  <a:pt x="658" y="800"/>
                  <a:pt x="602" y="883"/>
                </a:cubicBezTo>
                <a:cubicBezTo>
                  <a:pt x="599" y="907"/>
                  <a:pt x="599" y="932"/>
                  <a:pt x="593" y="955"/>
                </a:cubicBezTo>
                <a:cubicBezTo>
                  <a:pt x="590" y="966"/>
                  <a:pt x="579" y="973"/>
                  <a:pt x="575" y="983"/>
                </a:cubicBezTo>
                <a:cubicBezTo>
                  <a:pt x="570" y="994"/>
                  <a:pt x="569" y="1007"/>
                  <a:pt x="566" y="1019"/>
                </a:cubicBezTo>
                <a:cubicBezTo>
                  <a:pt x="557" y="1133"/>
                  <a:pt x="531" y="1213"/>
                  <a:pt x="502" y="1319"/>
                </a:cubicBezTo>
                <a:cubicBezTo>
                  <a:pt x="496" y="1365"/>
                  <a:pt x="491" y="1411"/>
                  <a:pt x="475" y="1455"/>
                </a:cubicBezTo>
                <a:cubicBezTo>
                  <a:pt x="454" y="1511"/>
                  <a:pt x="412" y="1553"/>
                  <a:pt x="393" y="1610"/>
                </a:cubicBezTo>
                <a:cubicBezTo>
                  <a:pt x="384" y="1663"/>
                  <a:pt x="369" y="1710"/>
                  <a:pt x="339" y="1755"/>
                </a:cubicBezTo>
                <a:cubicBezTo>
                  <a:pt x="327" y="1792"/>
                  <a:pt x="315" y="1829"/>
                  <a:pt x="302" y="1865"/>
                </a:cubicBezTo>
                <a:cubicBezTo>
                  <a:pt x="298" y="1875"/>
                  <a:pt x="288" y="1882"/>
                  <a:pt x="284" y="1892"/>
                </a:cubicBezTo>
                <a:cubicBezTo>
                  <a:pt x="266" y="1933"/>
                  <a:pt x="263" y="1965"/>
                  <a:pt x="239" y="2001"/>
                </a:cubicBezTo>
                <a:cubicBezTo>
                  <a:pt x="224" y="2062"/>
                  <a:pt x="190" y="2109"/>
                  <a:pt x="166" y="2165"/>
                </a:cubicBezTo>
                <a:cubicBezTo>
                  <a:pt x="125" y="2259"/>
                  <a:pt x="170" y="2186"/>
                  <a:pt x="130" y="2246"/>
                </a:cubicBezTo>
                <a:cubicBezTo>
                  <a:pt x="110" y="2328"/>
                  <a:pt x="120" y="2295"/>
                  <a:pt x="103" y="2346"/>
                </a:cubicBezTo>
                <a:cubicBezTo>
                  <a:pt x="94" y="2407"/>
                  <a:pt x="76" y="2435"/>
                  <a:pt x="57" y="2492"/>
                </a:cubicBezTo>
                <a:cubicBezTo>
                  <a:pt x="43" y="2536"/>
                  <a:pt x="37" y="2583"/>
                  <a:pt x="30" y="2628"/>
                </a:cubicBezTo>
                <a:cubicBezTo>
                  <a:pt x="24" y="2777"/>
                  <a:pt x="13" y="2917"/>
                  <a:pt x="3" y="3065"/>
                </a:cubicBezTo>
                <a:cubicBezTo>
                  <a:pt x="6" y="3135"/>
                  <a:pt x="0" y="3205"/>
                  <a:pt x="12" y="3274"/>
                </a:cubicBezTo>
                <a:cubicBezTo>
                  <a:pt x="19" y="3313"/>
                  <a:pt x="85" y="3374"/>
                  <a:pt x="112" y="3401"/>
                </a:cubicBezTo>
                <a:cubicBezTo>
                  <a:pt x="120" y="3409"/>
                  <a:pt x="122" y="3421"/>
                  <a:pt x="130" y="3428"/>
                </a:cubicBezTo>
                <a:cubicBezTo>
                  <a:pt x="198" y="3489"/>
                  <a:pt x="306" y="3520"/>
                  <a:pt x="393" y="3537"/>
                </a:cubicBezTo>
                <a:cubicBezTo>
                  <a:pt x="751" y="3532"/>
                  <a:pt x="1038" y="3525"/>
                  <a:pt x="1375" y="3501"/>
                </a:cubicBezTo>
                <a:cubicBezTo>
                  <a:pt x="1437" y="3480"/>
                  <a:pt x="1362" y="3503"/>
                  <a:pt x="1475" y="3483"/>
                </a:cubicBezTo>
                <a:cubicBezTo>
                  <a:pt x="1552" y="3469"/>
                  <a:pt x="1626" y="3438"/>
                  <a:pt x="1702" y="3419"/>
                </a:cubicBezTo>
                <a:cubicBezTo>
                  <a:pt x="1748" y="3375"/>
                  <a:pt x="1690" y="3425"/>
                  <a:pt x="1748" y="3392"/>
                </a:cubicBezTo>
                <a:cubicBezTo>
                  <a:pt x="1777" y="3375"/>
                  <a:pt x="1797" y="3350"/>
                  <a:pt x="1821" y="3328"/>
                </a:cubicBezTo>
                <a:cubicBezTo>
                  <a:pt x="1837" y="3281"/>
                  <a:pt x="1864" y="3237"/>
                  <a:pt x="1884" y="3192"/>
                </a:cubicBezTo>
                <a:cubicBezTo>
                  <a:pt x="1901" y="3154"/>
                  <a:pt x="1901" y="3137"/>
                  <a:pt x="1911" y="3101"/>
                </a:cubicBezTo>
                <a:cubicBezTo>
                  <a:pt x="1914" y="3092"/>
                  <a:pt x="1917" y="3083"/>
                  <a:pt x="1920" y="3074"/>
                </a:cubicBezTo>
                <a:cubicBezTo>
                  <a:pt x="1927" y="3050"/>
                  <a:pt x="1933" y="3025"/>
                  <a:pt x="1939" y="3001"/>
                </a:cubicBezTo>
                <a:cubicBezTo>
                  <a:pt x="1942" y="2989"/>
                  <a:pt x="1948" y="2965"/>
                  <a:pt x="1948" y="2965"/>
                </a:cubicBezTo>
                <a:cubicBezTo>
                  <a:pt x="1970" y="2790"/>
                  <a:pt x="1996" y="2613"/>
                  <a:pt x="2011" y="2437"/>
                </a:cubicBezTo>
                <a:cubicBezTo>
                  <a:pt x="2020" y="2334"/>
                  <a:pt x="2030" y="2231"/>
                  <a:pt x="2039" y="2128"/>
                </a:cubicBezTo>
                <a:cubicBezTo>
                  <a:pt x="2039" y="2125"/>
                  <a:pt x="2045" y="2026"/>
                  <a:pt x="2057" y="2001"/>
                </a:cubicBezTo>
                <a:cubicBezTo>
                  <a:pt x="2077" y="1961"/>
                  <a:pt x="2113" y="1902"/>
                  <a:pt x="2139" y="1865"/>
                </a:cubicBezTo>
                <a:cubicBezTo>
                  <a:pt x="2160" y="1800"/>
                  <a:pt x="2146" y="1826"/>
                  <a:pt x="2175" y="1783"/>
                </a:cubicBezTo>
                <a:cubicBezTo>
                  <a:pt x="2203" y="1696"/>
                  <a:pt x="2273" y="1642"/>
                  <a:pt x="2330" y="1574"/>
                </a:cubicBezTo>
                <a:cubicBezTo>
                  <a:pt x="2374" y="1521"/>
                  <a:pt x="2395" y="1448"/>
                  <a:pt x="2411" y="1383"/>
                </a:cubicBezTo>
                <a:cubicBezTo>
                  <a:pt x="2408" y="1331"/>
                  <a:pt x="2410" y="1279"/>
                  <a:pt x="2402" y="1228"/>
                </a:cubicBezTo>
                <a:cubicBezTo>
                  <a:pt x="2398" y="1198"/>
                  <a:pt x="2353" y="1156"/>
                  <a:pt x="2339" y="1128"/>
                </a:cubicBezTo>
                <a:cubicBezTo>
                  <a:pt x="2314" y="1077"/>
                  <a:pt x="2286" y="1034"/>
                  <a:pt x="2248" y="992"/>
                </a:cubicBezTo>
                <a:cubicBezTo>
                  <a:pt x="2231" y="973"/>
                  <a:pt x="2219" y="941"/>
                  <a:pt x="2193" y="937"/>
                </a:cubicBezTo>
                <a:cubicBezTo>
                  <a:pt x="2175" y="934"/>
                  <a:pt x="2157" y="931"/>
                  <a:pt x="2139" y="928"/>
                </a:cubicBezTo>
                <a:cubicBezTo>
                  <a:pt x="2029" y="857"/>
                  <a:pt x="1884" y="864"/>
                  <a:pt x="1757" y="855"/>
                </a:cubicBezTo>
                <a:cubicBezTo>
                  <a:pt x="1687" y="844"/>
                  <a:pt x="1618" y="835"/>
                  <a:pt x="1548" y="828"/>
                </a:cubicBezTo>
                <a:cubicBezTo>
                  <a:pt x="1499" y="812"/>
                  <a:pt x="1451" y="799"/>
                  <a:pt x="1402" y="783"/>
                </a:cubicBezTo>
                <a:cubicBezTo>
                  <a:pt x="1363" y="743"/>
                  <a:pt x="1346" y="723"/>
                  <a:pt x="1321" y="674"/>
                </a:cubicBezTo>
                <a:cubicBezTo>
                  <a:pt x="1324" y="507"/>
                  <a:pt x="1330" y="341"/>
                  <a:pt x="1330" y="174"/>
                </a:cubicBezTo>
                <a:cubicBezTo>
                  <a:pt x="1330" y="147"/>
                  <a:pt x="1332" y="117"/>
                  <a:pt x="1321" y="92"/>
                </a:cubicBezTo>
                <a:cubicBezTo>
                  <a:pt x="1306" y="58"/>
                  <a:pt x="1253" y="33"/>
                  <a:pt x="1221" y="19"/>
                </a:cubicBezTo>
                <a:cubicBezTo>
                  <a:pt x="1178" y="0"/>
                  <a:pt x="1144" y="1"/>
                  <a:pt x="1175" y="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760" y="958680"/>
            <a:ext cx="1147680" cy="3943440"/>
          </a:xfrm>
          <a:custGeom>
            <a:avLst/>
            <a:gdLst/>
            <a:ahLst/>
            <a:rect l="l" t="t" r="r" b="b"/>
            <a:pathLst>
              <a:path w="964" h="1863">
                <a:moveTo>
                  <a:pt x="417" y="65"/>
                </a:moveTo>
                <a:cubicBezTo>
                  <a:pt x="312" y="99"/>
                  <a:pt x="246" y="205"/>
                  <a:pt x="190" y="293"/>
                </a:cubicBezTo>
                <a:cubicBezTo>
                  <a:pt x="164" y="333"/>
                  <a:pt x="156" y="394"/>
                  <a:pt x="126" y="438"/>
                </a:cubicBezTo>
                <a:cubicBezTo>
                  <a:pt x="116" y="477"/>
                  <a:pt x="111" y="517"/>
                  <a:pt x="99" y="556"/>
                </a:cubicBezTo>
                <a:cubicBezTo>
                  <a:pt x="81" y="616"/>
                  <a:pt x="54" y="676"/>
                  <a:pt x="44" y="738"/>
                </a:cubicBezTo>
                <a:cubicBezTo>
                  <a:pt x="37" y="780"/>
                  <a:pt x="26" y="865"/>
                  <a:pt x="26" y="865"/>
                </a:cubicBezTo>
                <a:cubicBezTo>
                  <a:pt x="20" y="1059"/>
                  <a:pt x="0" y="1272"/>
                  <a:pt x="35" y="1465"/>
                </a:cubicBezTo>
                <a:cubicBezTo>
                  <a:pt x="48" y="1537"/>
                  <a:pt x="56" y="1613"/>
                  <a:pt x="99" y="1674"/>
                </a:cubicBezTo>
                <a:cubicBezTo>
                  <a:pt x="117" y="1731"/>
                  <a:pt x="169" y="1783"/>
                  <a:pt x="226" y="1802"/>
                </a:cubicBezTo>
                <a:cubicBezTo>
                  <a:pt x="287" y="1863"/>
                  <a:pt x="358" y="1834"/>
                  <a:pt x="444" y="1829"/>
                </a:cubicBezTo>
                <a:cubicBezTo>
                  <a:pt x="546" y="1795"/>
                  <a:pt x="542" y="1749"/>
                  <a:pt x="599" y="1674"/>
                </a:cubicBezTo>
                <a:cubicBezTo>
                  <a:pt x="611" y="1639"/>
                  <a:pt x="628" y="1600"/>
                  <a:pt x="653" y="1574"/>
                </a:cubicBezTo>
                <a:cubicBezTo>
                  <a:pt x="672" y="1516"/>
                  <a:pt x="698" y="1461"/>
                  <a:pt x="717" y="1402"/>
                </a:cubicBezTo>
                <a:cubicBezTo>
                  <a:pt x="746" y="1313"/>
                  <a:pt x="767" y="1220"/>
                  <a:pt x="789" y="1129"/>
                </a:cubicBezTo>
                <a:cubicBezTo>
                  <a:pt x="815" y="1018"/>
                  <a:pt x="826" y="902"/>
                  <a:pt x="862" y="793"/>
                </a:cubicBezTo>
                <a:cubicBezTo>
                  <a:pt x="870" y="737"/>
                  <a:pt x="884" y="691"/>
                  <a:pt x="899" y="638"/>
                </a:cubicBezTo>
                <a:cubicBezTo>
                  <a:pt x="906" y="614"/>
                  <a:pt x="911" y="589"/>
                  <a:pt x="917" y="565"/>
                </a:cubicBezTo>
                <a:cubicBezTo>
                  <a:pt x="920" y="553"/>
                  <a:pt x="926" y="529"/>
                  <a:pt x="926" y="529"/>
                </a:cubicBezTo>
                <a:cubicBezTo>
                  <a:pt x="934" y="437"/>
                  <a:pt x="949" y="347"/>
                  <a:pt x="962" y="256"/>
                </a:cubicBezTo>
                <a:cubicBezTo>
                  <a:pt x="959" y="198"/>
                  <a:pt x="964" y="140"/>
                  <a:pt x="953" y="83"/>
                </a:cubicBezTo>
                <a:cubicBezTo>
                  <a:pt x="949" y="61"/>
                  <a:pt x="875" y="51"/>
                  <a:pt x="862" y="47"/>
                </a:cubicBezTo>
                <a:cubicBezTo>
                  <a:pt x="791" y="27"/>
                  <a:pt x="717" y="12"/>
                  <a:pt x="644" y="2"/>
                </a:cubicBezTo>
                <a:cubicBezTo>
                  <a:pt x="592" y="5"/>
                  <a:pt x="540" y="0"/>
                  <a:pt x="489" y="11"/>
                </a:cubicBezTo>
                <a:cubicBezTo>
                  <a:pt x="468" y="16"/>
                  <a:pt x="453" y="35"/>
                  <a:pt x="435" y="47"/>
                </a:cubicBezTo>
                <a:cubicBezTo>
                  <a:pt x="406" y="67"/>
                  <a:pt x="397" y="65"/>
                  <a:pt x="417" y="65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" y="204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1160" y="213372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45040" y="20066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8240" y="335268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1560" y="4064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1560" y="81288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1560" y="121932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1560" y="162576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89080" y="355608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89320" y="416556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8610480"/>
            <a:ext cx="61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8. Example of ATN Directory contents in support of AMHS 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25880" y="184788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25880" y="254016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25880" y="2540160"/>
            <a:ext cx="0" cy="17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25880" y="424188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25880" y="3251160"/>
            <a:ext cx="25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25880" y="3556080"/>
            <a:ext cx="25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666880" y="533520"/>
            <a:ext cx="1981440" cy="769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ddress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4280" y="1219320"/>
            <a:ext cx="1676520" cy="563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CAO Registration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Public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914400"/>
            <a:ext cx="13334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rectory-based distributed 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1828800"/>
            <a:ext cx="11052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CAO Published AMHS MD and addressing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5181480"/>
            <a:ext cx="11052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CAO Registry of AMHS MDs and addressing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50" idx="3"/>
          </p:cNvCxnSpPr>
          <p:nvPr/>
        </p:nvCxnSpPr>
        <p:spPr>
          <a:xfrm>
            <a:off x="4381560" y="1193760"/>
            <a:ext cx="2160" cy="2820240"/>
          </a:xfrm>
          <a:prstGeom prst="curvedConnector5">
            <a:avLst>
              <a:gd name="adj1" fmla="val 14400000"/>
              <a:gd name="adj2" fmla="val 49993"/>
              <a:gd name="adj3" fmla="val 14400000"/>
            </a:avLst>
          </a:prstGeom>
          <a:ln w="93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 flipV="1">
            <a:off x="5486400" y="2514600"/>
            <a:ext cx="0" cy="26668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4419720" y="1371600"/>
            <a:ext cx="552240" cy="8380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733560" y="2286000"/>
            <a:ext cx="1238040" cy="144792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1219320"/>
            <a:ext cx="2666880" cy="403848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3733920"/>
            <a:ext cx="2724120" cy="165096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286000" y="5562720"/>
            <a:ext cx="2666880" cy="76176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300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20440" y="18907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3733920"/>
            <a:ext cx="13334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rectory-based distributed 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71200" y="32004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853452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x. General model for gateway address 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28600" y="990720"/>
            <a:ext cx="2514600" cy="1600200"/>
            <a:chOff x="228600" y="990720"/>
            <a:chExt cx="2514600" cy="1600200"/>
          </a:xfrm>
        </p:grpSpPr>
        <p:sp>
          <p:nvSpPr>
            <p:cNvPr id="262" name=""/>
            <p:cNvSpPr/>
            <p:nvPr/>
          </p:nvSpPr>
          <p:spPr>
            <a:xfrm>
              <a:off x="228600" y="1371600"/>
              <a:ext cx="251460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4920" y="1752480"/>
              <a:ext cx="609480" cy="70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Address mapping proce-dures (AMP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480" y="9907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e / ATSO1 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43000" y="1752480"/>
              <a:ext cx="685800" cy="70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Gateway'saddress mapping tables (AM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81080" y="1676520"/>
              <a:ext cx="60984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Address mapping data import process (AM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4400" y="2057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828440" y="2057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9800" y="1447920"/>
              <a:ext cx="229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ateway address conversion fun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228600" y="6705720"/>
            <a:ext cx="25146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7086600"/>
            <a:ext cx="60948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ddress mapping proce-dures (AM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6172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te / ATSO3 MD (without a Direct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7086600"/>
            <a:ext cx="68580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Gateway'saddress mapping tables (AM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7010280"/>
            <a:ext cx="609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ddress mapping data import process (AM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7391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828440" y="7391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9800" y="6781680"/>
            <a:ext cx="229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eway address conversion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28600" y="3581280"/>
            <a:ext cx="2514600" cy="1600200"/>
            <a:chOff x="228600" y="3581280"/>
            <a:chExt cx="2514600" cy="1600200"/>
          </a:xfrm>
        </p:grpSpPr>
        <p:sp>
          <p:nvSpPr>
            <p:cNvPr id="279" name=""/>
            <p:cNvSpPr/>
            <p:nvPr/>
          </p:nvSpPr>
          <p:spPr>
            <a:xfrm>
              <a:off x="228600" y="3962160"/>
              <a:ext cx="251460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4920" y="4343040"/>
              <a:ext cx="609480" cy="70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Address mapping proce-dures (AMP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9480" y="3581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e / ATSO2 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43000" y="4343040"/>
              <a:ext cx="685800" cy="70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Gateway'saddress mapping tables (AM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81080" y="4267080"/>
              <a:ext cx="60984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Address mapping data import process (AM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4400" y="4647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828440" y="4647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9800" y="4038480"/>
              <a:ext cx="229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ateway address conversion fun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H="1">
            <a:off x="2590920" y="2438280"/>
            <a:ext cx="2342880" cy="495324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/>
          <p:nvPr/>
        </p:nvCxnSpPr>
        <p:spPr>
          <a:xfrm flipV="1" rot="10800000">
            <a:off x="2590200" y="990360"/>
            <a:ext cx="457920" cy="900720"/>
          </a:xfrm>
          <a:prstGeom prst="bentConnector3">
            <a:avLst>
              <a:gd name="adj1" fmla="val 49960"/>
            </a:avLst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289" name=""/>
          <p:cNvCxnSpPr/>
          <p:nvPr/>
        </p:nvCxnSpPr>
        <p:spPr>
          <a:xfrm flipV="1" rot="10800000">
            <a:off x="2590200" y="4114440"/>
            <a:ext cx="457920" cy="900720"/>
          </a:xfrm>
          <a:prstGeom prst="bentConnector3">
            <a:avLst>
              <a:gd name="adj1" fmla="val 49960"/>
            </a:avLst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grpSp>
        <p:nvGrpSpPr>
          <p:cNvPr id="290" name=""/>
          <p:cNvGrpSpPr/>
          <p:nvPr/>
        </p:nvGrpSpPr>
        <p:grpSpPr>
          <a:xfrm>
            <a:off x="2590560" y="2285640"/>
            <a:ext cx="457200" cy="1600560"/>
            <a:chOff x="2590560" y="2285640"/>
            <a:chExt cx="457200" cy="1600560"/>
          </a:xfrm>
        </p:grpSpPr>
        <p:sp>
          <p:nvSpPr>
            <p:cNvPr id="291" name=""/>
            <p:cNvSpPr/>
            <p:nvPr/>
          </p:nvSpPr>
          <p:spPr>
            <a:xfrm flipH="1">
              <a:off x="2819160" y="3886200"/>
              <a:ext cx="22860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819520" y="2285640"/>
              <a:ext cx="0" cy="16002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590560" y="2286000"/>
              <a:ext cx="22860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91640" y="9907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44280" y="45720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08:53:42Z</dcterms:created>
  <dc:creator>VACHER Jean-Marc</dc:creator>
  <dc:description/>
  <dc:language>en-US</dc:language>
  <cp:lastModifiedBy>VACHER Jean-Marc</cp:lastModifiedBy>
  <cp:lastPrinted>2002-07-05T10:50:52Z</cp:lastPrinted>
  <dcterms:modified xsi:type="dcterms:W3CDTF">2002-07-18T08:25:43Z</dcterms:modified>
  <cp:revision>16</cp:revision>
  <dc:subject/>
  <dc:title>Aucun titre de diapositive</dc:title>
</cp:coreProperties>
</file>