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1D8FC54-6026-4DF6-AAEB-4CAD440287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ure 1-1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Generic regulatory framework for approv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286000" y="1981080"/>
            <a:ext cx="4584600" cy="34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ure 1-2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uidance material struct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133720" y="2286000"/>
            <a:ext cx="4584600" cy="31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ure 1-3: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Relationship of guidance material to standards and evide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905120" y="1981080"/>
            <a:ext cx="5041800" cy="365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ure 2-1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ationship of guidance material to planning, requirements determination, qualification, and operatio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133720" y="1752480"/>
            <a:ext cx="458460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ure 2-2: 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verview of requirements determin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666880" y="1828800"/>
            <a:ext cx="3670200" cy="364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ure 4-2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zard Classification/Safety Objectives Relationshi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905120" y="1600200"/>
            <a:ext cx="551196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ure 4-3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mary of the Relationships Among RCP, RCTP, ICP and ACP Within the OPA Proc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285920" y="1706400"/>
            <a:ext cx="6585120" cy="34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ure 7-1: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ED characteristics called out in the OSA are monitored in operations for changes so that, if necessary, alternative mitigation can be provid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2297160" y="2120760"/>
            <a:ext cx="4560840" cy="26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ure 7-2: 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pects of Continued Operational Safety.  OSA allocated objectives are ensured through monitoring.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2894040" y="2257560"/>
            <a:ext cx="3368520" cy="23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Steve</dc:creator>
  <dc:description/>
  <dc:language>en-US</dc:language>
  <cp:lastModifiedBy>Steve</cp:lastModifiedBy>
  <cp:revision>0</cp:revision>
  <dc:subject/>
  <dc:title>Figure 1-1:  Generic regulatory framework for approval.</dc:title>
</cp:coreProperties>
</file>