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3CE1-785B-4A80-8D89-1F5C67EF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519A-6ADC-44BE-84A3-F28B4B6B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71DE-D806-4D2D-A0AF-FE0F5067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D2C0-7C26-4A20-B2C1-05A79C9AA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AA68-6C69-42B7-86F8-A17C2094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C06D-E8D8-4527-9322-ED6A618D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D3CC-197B-4375-B993-D9140CC3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2BB6-1276-412A-84D5-CDF3E564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887F-2533-49A9-A7B3-48CF2203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1CC6-9FCF-40D7-986C-EE047F49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AB03-E316-451B-8DF2-B0B3BF54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A012-931A-4A1B-9A41-A7C2CFBF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MHS - M. Okle/sp, 29/04/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EC21-46A6-4F91-A611-9C8AA0BC1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143000"/>
          <a:ext cx="7391160" cy="38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43000"/>
                    <a:ext cx="7391160" cy="38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827000" y="5334120"/>
            <a:ext cx="51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 Narrow"/>
              </a:rPr>
              <a:t>Figure 3.1.2.4.1-1: Traffic flows supported by the CIDIN / AMHS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4440" y="201924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 Narrow"/>
              </a:rPr>
              <a:t>Applic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32767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512640" y="2894040"/>
            <a:ext cx="841320" cy="416160"/>
            <a:chOff x="512640" y="2894040"/>
            <a:chExt cx="841320" cy="41616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577440" y="2894040"/>
              <a:ext cx="71172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512640" y="2901600"/>
              <a:ext cx="84132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T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5837400" y="1682640"/>
            <a:ext cx="0" cy="3052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33560" y="2762280"/>
            <a:ext cx="326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00320" y="3575160"/>
            <a:ext cx="299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87720" y="1898640"/>
            <a:ext cx="3056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7200" y="1003320"/>
            <a:ext cx="2546280" cy="33984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00360" y="1049400"/>
            <a:ext cx="1989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Control Posi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609560" y="2476440"/>
            <a:ext cx="1219320" cy="587520"/>
            <a:chOff x="1609560" y="2476440"/>
            <a:chExt cx="1219320" cy="587520"/>
          </a:xfrm>
        </p:grpSpPr>
        <p:sp>
          <p:nvSpPr>
            <p:cNvPr id="56" name=""/>
            <p:cNvSpPr/>
            <p:nvPr/>
          </p:nvSpPr>
          <p:spPr>
            <a:xfrm>
              <a:off x="1614600" y="2476440"/>
              <a:ext cx="1209960" cy="587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09560" y="2532240"/>
              <a:ext cx="12193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AT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Compon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449360" y="838080"/>
            <a:ext cx="6134040" cy="459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68640" y="1644480"/>
            <a:ext cx="0" cy="3052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106640" y="2597040"/>
            <a:ext cx="393480" cy="230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79480" y="2346480"/>
            <a:ext cx="3589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80880" y="2529000"/>
            <a:ext cx="768240" cy="368280"/>
            <a:chOff x="380880" y="2529000"/>
            <a:chExt cx="768240" cy="368280"/>
          </a:xfrm>
        </p:grpSpPr>
        <p:pic>
          <p:nvPicPr>
            <p:cNvPr id="63" name="" descr=""/>
            <p:cNvPicPr/>
            <p:nvPr/>
          </p:nvPicPr>
          <p:blipFill>
            <a:blip r:embed="rId3"/>
            <a:stretch/>
          </p:blipFill>
          <p:spPr>
            <a:xfrm>
              <a:off x="380880" y="2529000"/>
              <a:ext cx="71784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421920" y="2576520"/>
              <a:ext cx="727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000000"/>
                  </a:solidFill>
                  <a:latin typeface="Arial"/>
                </a:rPr>
                <a:t>CIDIN/AMH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622680" y="1601640"/>
            <a:ext cx="1487520" cy="587520"/>
            <a:chOff x="3622680" y="1601640"/>
            <a:chExt cx="1487520" cy="587520"/>
          </a:xfrm>
        </p:grpSpPr>
        <p:sp>
          <p:nvSpPr>
            <p:cNvPr id="66" name=""/>
            <p:cNvSpPr/>
            <p:nvPr/>
          </p:nvSpPr>
          <p:spPr>
            <a:xfrm>
              <a:off x="3760920" y="1601640"/>
              <a:ext cx="1209960" cy="587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622680" y="1607760"/>
              <a:ext cx="148752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DIN (AFTN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TC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MCF =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500280" y="2454120"/>
            <a:ext cx="1676520" cy="590400"/>
            <a:chOff x="3500280" y="2454120"/>
            <a:chExt cx="1676520" cy="590400"/>
          </a:xfrm>
        </p:grpSpPr>
        <p:sp>
          <p:nvSpPr>
            <p:cNvPr id="69" name=""/>
            <p:cNvSpPr/>
            <p:nvPr/>
          </p:nvSpPr>
          <p:spPr>
            <a:xfrm>
              <a:off x="3733920" y="2457000"/>
              <a:ext cx="1209600" cy="587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00280" y="2454120"/>
              <a:ext cx="167652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DIN (OPME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TC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MCF =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665520" y="3292560"/>
            <a:ext cx="1360440" cy="635040"/>
            <a:chOff x="3665520" y="3292560"/>
            <a:chExt cx="1360440" cy="635040"/>
          </a:xfrm>
        </p:grpSpPr>
        <p:sp>
          <p:nvSpPr>
            <p:cNvPr id="72" name=""/>
            <p:cNvSpPr/>
            <p:nvPr/>
          </p:nvSpPr>
          <p:spPr>
            <a:xfrm>
              <a:off x="3741120" y="3340080"/>
              <a:ext cx="1209960" cy="587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665520" y="3292560"/>
              <a:ext cx="13604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DIN (OPMSG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TC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MCF =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390760" y="4711680"/>
            <a:ext cx="1289160" cy="587520"/>
            <a:chOff x="2390760" y="4711680"/>
            <a:chExt cx="1289160" cy="587520"/>
          </a:xfrm>
        </p:grpSpPr>
        <p:sp>
          <p:nvSpPr>
            <p:cNvPr id="75" name=""/>
            <p:cNvSpPr/>
            <p:nvPr/>
          </p:nvSpPr>
          <p:spPr>
            <a:xfrm>
              <a:off x="2452680" y="4711680"/>
              <a:ext cx="1209960" cy="587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90760" y="4750920"/>
              <a:ext cx="128916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fer-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ISO/IEC 10021-4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216400" y="4699080"/>
            <a:ext cx="1219320" cy="587160"/>
            <a:chOff x="5216400" y="4699080"/>
            <a:chExt cx="1219320" cy="587160"/>
          </a:xfrm>
        </p:grpSpPr>
        <p:sp>
          <p:nvSpPr>
            <p:cNvPr id="78" name=""/>
            <p:cNvSpPr/>
            <p:nvPr/>
          </p:nvSpPr>
          <p:spPr>
            <a:xfrm>
              <a:off x="5221440" y="4699080"/>
              <a:ext cx="1209600" cy="5871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16400" y="4739040"/>
              <a:ext cx="121932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DI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983200" y="1219320"/>
            <a:ext cx="1481400" cy="3340080"/>
            <a:chOff x="5983200" y="1219320"/>
            <a:chExt cx="1481400" cy="3340080"/>
          </a:xfrm>
        </p:grpSpPr>
        <p:sp>
          <p:nvSpPr>
            <p:cNvPr id="81" name=""/>
            <p:cNvSpPr/>
            <p:nvPr/>
          </p:nvSpPr>
          <p:spPr>
            <a:xfrm>
              <a:off x="5983200" y="1219320"/>
              <a:ext cx="148140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6095520" y="1600200"/>
              <a:ext cx="1219680" cy="2863800"/>
              <a:chOff x="6095520" y="1600200"/>
              <a:chExt cx="1219680" cy="2863800"/>
            </a:xfrm>
          </p:grpSpPr>
          <p:sp>
            <p:nvSpPr>
              <p:cNvPr id="83" name=""/>
              <p:cNvSpPr/>
              <p:nvPr/>
            </p:nvSpPr>
            <p:spPr>
              <a:xfrm>
                <a:off x="6101280" y="1600200"/>
                <a:ext cx="1209960" cy="286380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095520" y="2749320"/>
                <a:ext cx="1219680" cy="54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CIDI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Protoco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Stac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6060600" y="1278360"/>
              <a:ext cx="1219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CIDIN Compon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8001000" y="2448000"/>
            <a:ext cx="914400" cy="520560"/>
            <a:chOff x="8001000" y="2448000"/>
            <a:chExt cx="914400" cy="520560"/>
          </a:xfrm>
        </p:grpSpPr>
        <p:sp>
          <p:nvSpPr>
            <p:cNvPr id="87" name=""/>
            <p:cNvSpPr/>
            <p:nvPr/>
          </p:nvSpPr>
          <p:spPr>
            <a:xfrm>
              <a:off x="8039160" y="2448000"/>
              <a:ext cx="838080" cy="5205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001000" y="2479680"/>
              <a:ext cx="9144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CIDIN Cent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7532640" y="2610000"/>
            <a:ext cx="393840" cy="230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08160" y="350532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 Narrow"/>
              </a:rPr>
              <a:t>1) Only for the sa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de-DE" sz="900" spc="-1" strike="noStrike">
                <a:solidFill>
                  <a:srgbClr val="000000"/>
                </a:solidFill>
                <a:latin typeface="Arial Narrow"/>
              </a:rPr>
              <a:t>type of MTC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62800" y="5791320"/>
            <a:ext cx="328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Figure 3.1.2.4.1-2: Functional view of the CIDIN/AMHS 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09880" y="762120"/>
            <a:ext cx="1524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52480" y="1828800"/>
            <a:ext cx="1524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2590920"/>
            <a:ext cx="11430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590920"/>
            <a:ext cx="11430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25909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nagement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53080" y="25909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nagement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93" idx="0"/>
            <a:endCxn id="97" idx="0"/>
          </p:cNvCxnSpPr>
          <p:nvPr/>
        </p:nvCxnSpPr>
        <p:spPr>
          <a:xfrm flipH="1" rot="16200000">
            <a:off x="4495320" y="-153360"/>
            <a:ext cx="762840" cy="4725000"/>
          </a:xfrm>
          <a:prstGeom prst="bentConnector3">
            <a:avLst>
              <a:gd name="adj1" fmla="val -2998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4572000" y="121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350532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35053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ervice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62920" y="3505320"/>
            <a:ext cx="761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Enqui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Res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3505320"/>
            <a:ext cx="990720" cy="406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Operator Mes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sage Ex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3505320"/>
            <a:ext cx="761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Not y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specifi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24480" y="350532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cknow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led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3505320"/>
            <a:ext cx="761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MC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Err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00400" y="42670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Repet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endCxn id="107" idx="0"/>
          </p:cNvCxnSpPr>
          <p:nvPr/>
        </p:nvCxnSpPr>
        <p:spPr>
          <a:xfrm flipH="1" rot="16200000">
            <a:off x="2513880" y="3084840"/>
            <a:ext cx="2160" cy="23630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9" name=""/>
          <p:cNvSpPr/>
          <p:nvPr/>
        </p:nvSpPr>
        <p:spPr>
          <a:xfrm>
            <a:off x="2133720" y="3886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623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94" idx="0"/>
            <a:endCxn id="96" idx="0"/>
          </p:cNvCxnSpPr>
          <p:nvPr/>
        </p:nvCxnSpPr>
        <p:spPr>
          <a:xfrm flipH="1" rot="16200000">
            <a:off x="3362040" y="923040"/>
            <a:ext cx="19800" cy="3315240"/>
          </a:xfrm>
          <a:prstGeom prst="bentConnector3">
            <a:avLst>
              <a:gd name="adj1" fmla="val -7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2514600" y="2286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00" idx="0"/>
            <a:endCxn id="101" idx="0"/>
          </p:cNvCxnSpPr>
          <p:nvPr/>
        </p:nvCxnSpPr>
        <p:spPr>
          <a:xfrm flipH="1" rot="16200000">
            <a:off x="1656720" y="2991240"/>
            <a:ext cx="2160" cy="10296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4" name=""/>
          <p:cNvSpPr/>
          <p:nvPr/>
        </p:nvSpPr>
        <p:spPr>
          <a:xfrm>
            <a:off x="16765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292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5" idx="0"/>
            <a:endCxn id="106" idx="0"/>
          </p:cNvCxnSpPr>
          <p:nvPr/>
        </p:nvCxnSpPr>
        <p:spPr>
          <a:xfrm flipH="1" rot="16200000">
            <a:off x="7581240" y="2629440"/>
            <a:ext cx="2160" cy="1753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8" name=""/>
          <p:cNvSpPr/>
          <p:nvPr/>
        </p:nvSpPr>
        <p:spPr>
          <a:xfrm>
            <a:off x="72388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4380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6960" y="609480"/>
            <a:ext cx="108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CIDIN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75440" y="158256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T =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29880" y="236232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3400" y="2362320"/>
            <a:ext cx="59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CF =2                                          =3                                                      = 1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                              MT =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2666880"/>
            <a:ext cx="55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OPM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1219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03" idx="0"/>
            <a:endCxn id="116" idx="0"/>
          </p:cNvCxnSpPr>
          <p:nvPr/>
        </p:nvCxnSpPr>
        <p:spPr>
          <a:xfrm flipH="1" flipV="1" rot="5400000">
            <a:off x="4676400" y="3133440"/>
            <a:ext cx="210240" cy="496080"/>
          </a:xfrm>
          <a:prstGeom prst="bentConnector3">
            <a:avLst>
              <a:gd name="adj1" fmla="val 4528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/>
          <p:nvPr/>
        </p:nvCxnSpPr>
        <p:spPr>
          <a:xfrm>
            <a:off x="5028840" y="3390480"/>
            <a:ext cx="470520" cy="127800"/>
          </a:xfrm>
          <a:prstGeom prst="bentConnector3">
            <a:avLst>
              <a:gd name="adj1" fmla="val 10000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29" name=""/>
          <p:cNvSpPr/>
          <p:nvPr/>
        </p:nvSpPr>
        <p:spPr>
          <a:xfrm>
            <a:off x="6833520" y="3259080"/>
            <a:ext cx="200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NMF = 3          =4                              =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029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4952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89120" y="4876920"/>
            <a:ext cx="111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Appl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14800" y="5029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4952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24480" y="5029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952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34320" y="4876920"/>
            <a:ext cx="128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Transport 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22960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39080" y="4952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80520" y="5316480"/>
            <a:ext cx="609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 MTC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80880" y="5697360"/>
            <a:ext cx="74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from MTC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64360" y="5595840"/>
            <a:ext cx="37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Figure 3.1.2.4.2-1: CIDIN messages exchanged betwee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CIDIN Component and MT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733920"/>
            <a:ext cx="152280" cy="1522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5328000">
            <a:off x="685440" y="3505320"/>
            <a:ext cx="152280" cy="1522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3505320"/>
            <a:ext cx="9903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OPM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328000">
            <a:off x="4070160" y="3537000"/>
            <a:ext cx="152280" cy="1522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5328000">
            <a:off x="2819160" y="3505320"/>
            <a:ext cx="152280" cy="1522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19520" y="3733920"/>
            <a:ext cx="152280" cy="1522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5328000">
            <a:off x="6324480" y="3504960"/>
            <a:ext cx="152280" cy="15264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5328000">
            <a:off x="7162560" y="3505320"/>
            <a:ext cx="152280" cy="1522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5328000">
            <a:off x="8076960" y="3505320"/>
            <a:ext cx="152280" cy="1522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525780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5328000">
            <a:off x="685440" y="5257800"/>
            <a:ext cx="152280" cy="1522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571500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5328000">
            <a:off x="685440" y="5715000"/>
            <a:ext cx="152280" cy="1522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5943600"/>
            <a:ext cx="152280" cy="1522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4267080"/>
            <a:ext cx="9144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cknowledge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ment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4495680"/>
            <a:ext cx="152280" cy="15264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5328000">
            <a:off x="761400" y="4267080"/>
            <a:ext cx="152640" cy="1522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4267080"/>
            <a:ext cx="11430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Unknown addresse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Indic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4495680"/>
            <a:ext cx="152280" cy="15264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5328000">
            <a:off x="1828080" y="4267080"/>
            <a:ext cx="152640" cy="1522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5328000">
            <a:off x="3199680" y="4267080"/>
            <a:ext cx="152640" cy="1522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90720" y="3030480"/>
            <a:ext cx="48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TC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43200" y="3030480"/>
            <a:ext cx="48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TC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33920" y="3944880"/>
            <a:ext cx="50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TC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70520" y="3733920"/>
            <a:ext cx="152280" cy="1522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962520" y="838080"/>
            <a:ext cx="1295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onver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38480" y="1676520"/>
            <a:ext cx="12956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Logg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14800" y="320040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Use o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secondary 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10666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57800" y="990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57800" y="10666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1828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282680" y="2437920"/>
            <a:ext cx="626112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24480" y="4572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19520" y="5335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03840" y="185760"/>
            <a:ext cx="15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a. nominal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54680" y="515880"/>
            <a:ext cx="1032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 u="sng">
                <a:solidFill>
                  <a:srgbClr val="000000"/>
                </a:solidFill>
                <a:uFillTx/>
                <a:latin typeface="Arial Narrow"/>
              </a:rPr>
              <a:t>ATN  Compon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MHS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67080" y="380880"/>
            <a:ext cx="66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 u="sng">
                <a:solidFill>
                  <a:srgbClr val="000000"/>
                </a:solidFill>
                <a:uFillTx/>
                <a:latin typeface="Arial Narrow"/>
              </a:rPr>
              <a:t>MT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94760" y="200160"/>
            <a:ext cx="110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 u="sng">
                <a:solidFill>
                  <a:srgbClr val="000000"/>
                </a:solidFill>
                <a:uFillTx/>
                <a:latin typeface="Arial Narrow"/>
              </a:rPr>
              <a:t>CIDIN Compo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04040" y="782640"/>
            <a:ext cx="150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Information msg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41240" y="2109960"/>
            <a:ext cx="87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/ 3.1-2-4-3-2-1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4120" y="327672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149960" y="316224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/>
          <p:nvPr/>
        </p:nvCxnSpPr>
        <p:spPr>
          <a:xfrm>
            <a:off x="5333760" y="3428640"/>
            <a:ext cx="1981800" cy="229320"/>
          </a:xfrm>
          <a:prstGeom prst="bentConnector3">
            <a:avLst>
              <a:gd name="adj1" fmla="val 2819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/>
          <p:nvPr/>
        </p:nvCxnSpPr>
        <p:spPr>
          <a:xfrm rot="10800000">
            <a:off x="1586880" y="4247280"/>
            <a:ext cx="2832840" cy="80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/>
          <p:nvPr/>
        </p:nvCxnSpPr>
        <p:spPr>
          <a:xfrm flipV="1" rot="10800000">
            <a:off x="1599480" y="4437720"/>
            <a:ext cx="2791440" cy="114840"/>
          </a:xfrm>
          <a:prstGeom prst="bentConnector3">
            <a:avLst>
              <a:gd name="adj1" fmla="val 499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5334120" y="43434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188120" y="4216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/>
          <p:nvPr/>
        </p:nvCxnSpPr>
        <p:spPr>
          <a:xfrm rot="10800000">
            <a:off x="1573920" y="5139720"/>
            <a:ext cx="2832840" cy="79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/>
          <p:nvPr/>
        </p:nvCxnSpPr>
        <p:spPr>
          <a:xfrm flipV="1" rot="10800000">
            <a:off x="1599480" y="5333040"/>
            <a:ext cx="2791440" cy="114840"/>
          </a:xfrm>
          <a:prstGeom prst="bentConnector3">
            <a:avLst>
              <a:gd name="adj1" fmla="val 499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5334120" y="5276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162920" y="51814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419112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NDR or I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Gen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14800" y="510552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NDR or I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Gen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3276720"/>
            <a:ext cx="0" cy="255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32004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3879720"/>
            <a:ext cx="628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92400" y="4861080"/>
            <a:ext cx="62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95280" y="586728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00240" y="303048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3b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28080" y="2801880"/>
            <a:ext cx="1680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Missing CIDIN netw. ack. ms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/3.1.2.4.2.5.5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59480" y="3373560"/>
            <a:ext cx="133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information ms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73920" y="359568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/3.1.2.4.3.2.2b)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15120" y="4014720"/>
            <a:ext cx="7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MHS N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15840" y="4281480"/>
            <a:ext cx="6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MHS I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3400" y="4038480"/>
            <a:ext cx="36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4a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77160" y="4255920"/>
            <a:ext cx="28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63120" y="445932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4b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01000" y="4630680"/>
            <a:ext cx="91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/3.1.2.4.3.2.2c)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47600" y="406548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3b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334560" y="3881520"/>
            <a:ext cx="1680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Missing CIDIN netw. ack. ms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/3.1.2.4.2.5.5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08640" y="4878360"/>
            <a:ext cx="7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MHS N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15840" y="5164200"/>
            <a:ext cx="6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MHS I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51960" y="5138640"/>
            <a:ext cx="28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37560" y="4897440"/>
            <a:ext cx="36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4a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337920" y="539280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4b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23560" y="4935600"/>
            <a:ext cx="36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3c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01360" y="5500800"/>
            <a:ext cx="81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/3.1.2.4.3.2.5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392520" y="4846680"/>
            <a:ext cx="125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MCF error ms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/3.1.2.4.2.1.3b)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04200" y="2852640"/>
            <a:ext cx="151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b. Out-of-line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51520" y="6078600"/>
            <a:ext cx="3336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Figure 3.1.2.4.3.2-1: Handling of CIDIN service confirmations f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sent CIDIN information mess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33360" y="744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1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547960" y="744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2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547600" y="1506600"/>
            <a:ext cx="36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3a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550560" y="1447920"/>
            <a:ext cx="1262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netw. ack. ms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/3.1.2.4.2.1.3.a)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352680" y="121932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Message Acceptance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onver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43720" y="457200"/>
            <a:ext cx="15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a. nominal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1371240" y="1371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0" y="13716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28" idx="2"/>
          </p:cNvCxnSpPr>
          <p:nvPr/>
        </p:nvCxnSpPr>
        <p:spPr>
          <a:xfrm flipH="1" rot="16200000">
            <a:off x="5600520" y="-38520"/>
            <a:ext cx="229320" cy="3505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1143000" y="220968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90920" y="10666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86400" y="990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52680" y="3124080"/>
            <a:ext cx="12193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No Accept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32767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6" idx="2"/>
          </p:cNvCxnSpPr>
          <p:nvPr/>
        </p:nvCxnSpPr>
        <p:spPr>
          <a:xfrm flipH="1" rot="16200000">
            <a:off x="5219640" y="2247480"/>
            <a:ext cx="229320" cy="274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9" name=""/>
          <p:cNvSpPr/>
          <p:nvPr/>
        </p:nvSpPr>
        <p:spPr>
          <a:xfrm>
            <a:off x="1143000" y="426708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29718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86400" y="29718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0572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72200" y="487692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MCF no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suppor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0"/>
          </p:cNvCxnSpPr>
          <p:nvPr/>
        </p:nvCxnSpPr>
        <p:spPr>
          <a:xfrm flipH="1" flipV="1" rot="5400000">
            <a:off x="7086240" y="4190400"/>
            <a:ext cx="381960" cy="991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45" name=""/>
          <p:cNvCxnSpPr/>
          <p:nvPr/>
        </p:nvCxnSpPr>
        <p:spPr>
          <a:xfrm flipH="1" rot="16200000">
            <a:off x="7162560" y="4876200"/>
            <a:ext cx="229320" cy="991440"/>
          </a:xfrm>
          <a:prstGeom prst="bentConnector3">
            <a:avLst>
              <a:gd name="adj1" fmla="val 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1143000" y="586728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41920" y="762120"/>
            <a:ext cx="106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 u="sng">
                <a:solidFill>
                  <a:srgbClr val="000000"/>
                </a:solidFill>
                <a:uFillTx/>
                <a:latin typeface="Arial Narrow"/>
              </a:rPr>
              <a:t>AFTN Compon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MHS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080" y="762120"/>
            <a:ext cx="133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 u="sng">
                <a:solidFill>
                  <a:srgbClr val="000000"/>
                </a:solidFill>
                <a:uFillTx/>
                <a:latin typeface="Arial Narrow"/>
              </a:rPr>
              <a:t>CIDIN Compon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information ms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04760" y="10494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3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719160" y="74448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 u="sng">
                <a:solidFill>
                  <a:srgbClr val="000000"/>
                </a:solidFill>
                <a:uFillTx/>
                <a:latin typeface="Arial Narrow"/>
              </a:rPr>
              <a:t>MT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938120" y="10494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1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724840" y="1658880"/>
            <a:ext cx="81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/3.1.2.4.3.2.8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937760" y="1582560"/>
            <a:ext cx="36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2a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15680" y="1420920"/>
            <a:ext cx="1233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netw. ack.ms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/3.1.2.4.2.1.9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43720" y="243828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b. Out-of-line sit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30880" y="2954160"/>
            <a:ext cx="133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information ms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77120" y="3564000"/>
            <a:ext cx="81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/3.1.2.4.3.2.8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39120" y="3868560"/>
            <a:ext cx="202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Suppression of CIDIN netw. ack.ms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/3.1.2.4.2.10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76560" y="5468760"/>
            <a:ext cx="125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MCF error ms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/3.1.2.4.2.1.8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923800" y="4249800"/>
            <a:ext cx="168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information ms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18000" y="6002280"/>
            <a:ext cx="3336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Figure 3.1.2.4.3.2-2: Handling of CIDIN service confirmations f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received CIDIN information mess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938120" y="303048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2b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228600" y="838080"/>
          <a:ext cx="8534520" cy="469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38080"/>
                    <a:ext cx="8534520" cy="46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2634480" y="4343400"/>
            <a:ext cx="119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ddress Conver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MF          Ae, 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44800" y="2438280"/>
            <a:ext cx="83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Use of 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(AFT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53360" y="325908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0120" y="3657600"/>
            <a:ext cx="1467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Originator MF-Add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Recipient MF-Address(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62120" y="4648320"/>
            <a:ext cx="113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Non-use of 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(Non-AFT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09520" y="5443560"/>
            <a:ext cx="1432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Leg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d    Destination add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e    CIDIN entry add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x    CIDIn exit add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04040" y="5824440"/>
            <a:ext cx="457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Figure 3.1.2.4.3.6-1:  Translation from MF-addresses into CIDIN addr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962680" y="2438280"/>
            <a:ext cx="89532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35160" y="46227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81400" y="432576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39200" y="266688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d(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233040" y="2192400"/>
            <a:ext cx="49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x(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54480" y="177156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523880" y="1752480"/>
            <a:ext cx="16002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Originator Ind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962520"/>
            <a:ext cx="1600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Ax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...Ax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 Narrow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553080" y="1752480"/>
            <a:ext cx="20574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Originator MF-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Recipient MF-Address(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553080" y="3962520"/>
            <a:ext cx="20574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Originator MF-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Recipient MF-Address(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14800" y="1905120"/>
            <a:ext cx="1447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Address Con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AF           M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91120" y="4114800"/>
            <a:ext cx="14475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Address Con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Ae, A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 Narrow"/>
              </a:rPr>
              <a:t>x</a:t>
            </a: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             M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2209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24080" y="2514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62720" y="2209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562720" y="2514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0400" y="4419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00400" y="4724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638680" y="4419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3868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5440" y="2090880"/>
            <a:ext cx="83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Use of 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(AFT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66840" y="4376880"/>
            <a:ext cx="110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Non-use of 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(AFT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908000" y="129528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CIDIN (AFT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847880" y="2581200"/>
            <a:ext cx="76320" cy="228600"/>
          </a:xfrm>
          <a:custGeom>
            <a:avLst/>
            <a:gdLst>
              <a:gd name="textAreaLeft" fmla="*/ 48960 w 76320"/>
              <a:gd name="textAreaRight" fmla="*/ 76320 w 7632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19360" y="2562120"/>
            <a:ext cx="76320" cy="228600"/>
          </a:xfrm>
          <a:custGeom>
            <a:avLst/>
            <a:gdLst>
              <a:gd name="textAreaLeft" fmla="*/ 0 w 76320"/>
              <a:gd name="textAreaRight" fmla="*/ 27360 w 7632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3120" y="2562120"/>
            <a:ext cx="697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Ad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...Ad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 Narrow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62680" y="1811160"/>
            <a:ext cx="68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Origin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Indic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3400" y="259092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d(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90560" y="4097160"/>
            <a:ext cx="313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90200" y="4478400"/>
            <a:ext cx="44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x(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270680" y="1447920"/>
            <a:ext cx="91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FTN/AM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72428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32040" y="3581280"/>
            <a:ext cx="125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CIDIN (Non-AFT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47000" y="3733920"/>
            <a:ext cx="119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Non-AFTN/AM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87692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064360" y="132876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140320" y="361476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61800" y="5291280"/>
            <a:ext cx="1460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Leg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d     Destination add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e     CIDIN entry add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x     CIDIN exit add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19880" y="5562720"/>
            <a:ext cx="45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Figure 3.1.2.4.3.6-2: Translation from CIDIN addresses into MF-addr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3T14:30:35Z</dcterms:created>
  <dc:creator>Spaerke-Ingrid</dc:creator>
  <dc:description/>
  <dc:language>en-US</dc:language>
  <cp:lastModifiedBy>Okle Manfred</cp:lastModifiedBy>
  <cp:lastPrinted>1999-04-29T14:46:59Z</cp:lastPrinted>
  <dcterms:modified xsi:type="dcterms:W3CDTF">1999-05-14T08:54:33Z</dcterms:modified>
  <cp:revision>12</cp:revision>
  <dc:subject/>
  <dc:title>Kein Folientitel</dc:title>
</cp:coreProperties>
</file>