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615-BA17-4608-972D-02684218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F04-EF59-4BF4-9947-1778B9EF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624-3988-4619-AD03-0102149A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151-7784-4B35-96A9-39200813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B62-4213-429E-90B4-29B62CEC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A57-BAB9-47E1-84CC-84517B37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30C-0D96-4317-9C55-21433C23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33F-38B6-476E-AA52-F2E9E4DF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372-4F67-463E-A96F-177C6F01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1E6-0FD7-4786-85E7-F416BF75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00B-57B3-4F6D-8B88-58AC7031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3BF-A6B9-4CB5-A65D-B683739F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08C5-4FD2-4B7F-ACC0-F61626678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080" y="380880"/>
            <a:ext cx="120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Ground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4720" y="29196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4520" y="380880"/>
            <a:ext cx="922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584520" y="787320"/>
            <a:ext cx="2749680" cy="2489040"/>
            <a:chOff x="3584520" y="787320"/>
            <a:chExt cx="2749680" cy="2489040"/>
          </a:xfrm>
        </p:grpSpPr>
        <p:sp>
          <p:nvSpPr>
            <p:cNvPr id="45" name=""/>
            <p:cNvSpPr/>
            <p:nvPr/>
          </p:nvSpPr>
          <p:spPr>
            <a:xfrm>
              <a:off x="6334200" y="79920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75440" y="78732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78732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4520" y="81216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332040" y="860400"/>
            <a:ext cx="1436760" cy="123840"/>
            <a:chOff x="6332040" y="860400"/>
            <a:chExt cx="1436760" cy="123840"/>
          </a:xfrm>
        </p:grpSpPr>
        <p:sp>
          <p:nvSpPr>
            <p:cNvPr id="50" name=""/>
            <p:cNvSpPr/>
            <p:nvPr/>
          </p:nvSpPr>
          <p:spPr>
            <a:xfrm flipH="1">
              <a:off x="6435360" y="92880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332040" y="86040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641840" y="1220760"/>
            <a:ext cx="617040" cy="252360"/>
            <a:chOff x="4641840" y="1220760"/>
            <a:chExt cx="617040" cy="252360"/>
          </a:xfrm>
        </p:grpSpPr>
        <p:sp>
          <p:nvSpPr>
            <p:cNvPr id="53" name=""/>
            <p:cNvSpPr/>
            <p:nvPr/>
          </p:nvSpPr>
          <p:spPr>
            <a:xfrm flipH="1">
              <a:off x="5158800" y="122076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955760" y="129708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754160" y="1373400"/>
              <a:ext cx="9864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" y="0"/>
                  </a:moveTo>
                  <a:lnTo>
                    <a:pt x="0" y="12"/>
                  </a:lnTo>
                  <a:lnTo>
                    <a:pt x="56" y="31"/>
                  </a:lnTo>
                  <a:lnTo>
                    <a:pt x="61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1840" y="144936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56960" y="132084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138" y="81"/>
                  </a:moveTo>
                  <a:lnTo>
                    <a:pt x="28" y="0"/>
                  </a:lnTo>
                  <a:lnTo>
                    <a:pt x="0" y="71"/>
                  </a:lnTo>
                  <a:lnTo>
                    <a:pt x="13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142720" y="1698480"/>
            <a:ext cx="1436760" cy="123480"/>
            <a:chOff x="2142720" y="1698480"/>
            <a:chExt cx="1436760" cy="123480"/>
          </a:xfrm>
        </p:grpSpPr>
        <p:sp>
          <p:nvSpPr>
            <p:cNvPr id="59" name=""/>
            <p:cNvSpPr/>
            <p:nvPr/>
          </p:nvSpPr>
          <p:spPr>
            <a:xfrm flipH="1">
              <a:off x="2246040" y="176652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142720" y="1698480"/>
              <a:ext cx="216000" cy="12348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H="1">
            <a:off x="2247480" y="1477800"/>
            <a:ext cx="1299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265360" y="928800"/>
            <a:ext cx="1055880" cy="360360"/>
            <a:chOff x="5265360" y="928800"/>
            <a:chExt cx="1055880" cy="360360"/>
          </a:xfrm>
        </p:grpSpPr>
        <p:sp>
          <p:nvSpPr>
            <p:cNvPr id="63" name=""/>
            <p:cNvSpPr/>
            <p:nvPr/>
          </p:nvSpPr>
          <p:spPr>
            <a:xfrm flipH="1">
              <a:off x="5927400" y="928800"/>
              <a:ext cx="3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622480" y="928800"/>
              <a:ext cx="31752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265360" y="1165320"/>
              <a:ext cx="370080" cy="123840"/>
              <a:chOff x="5265360" y="1165320"/>
              <a:chExt cx="370080" cy="123840"/>
            </a:xfrm>
          </p:grpSpPr>
          <p:sp>
            <p:nvSpPr>
              <p:cNvPr id="66" name=""/>
              <p:cNvSpPr/>
              <p:nvPr/>
            </p:nvSpPr>
            <p:spPr>
              <a:xfrm flipH="1">
                <a:off x="5368680" y="123336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5265360" y="116532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3591000" y="1461960"/>
            <a:ext cx="1055520" cy="360360"/>
            <a:chOff x="3591000" y="1461960"/>
            <a:chExt cx="1055520" cy="360360"/>
          </a:xfrm>
        </p:grpSpPr>
        <p:sp>
          <p:nvSpPr>
            <p:cNvPr id="69" name=""/>
            <p:cNvSpPr/>
            <p:nvPr/>
          </p:nvSpPr>
          <p:spPr>
            <a:xfrm flipH="1">
              <a:off x="4253040" y="146196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948120" y="1461960"/>
              <a:ext cx="31608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591000" y="1698840"/>
              <a:ext cx="369720" cy="123480"/>
              <a:chOff x="3591000" y="1698840"/>
              <a:chExt cx="369720" cy="1234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3693960" y="176688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3591000" y="1698840"/>
                <a:ext cx="21600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 flipH="1">
            <a:off x="6381360" y="977760"/>
            <a:ext cx="1343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168280" y="2212920"/>
            <a:ext cx="5624280" cy="961560"/>
            <a:chOff x="2168280" y="2212920"/>
            <a:chExt cx="5624280" cy="961560"/>
          </a:xfrm>
        </p:grpSpPr>
        <p:grpSp>
          <p:nvGrpSpPr>
            <p:cNvPr id="76" name=""/>
            <p:cNvGrpSpPr/>
            <p:nvPr/>
          </p:nvGrpSpPr>
          <p:grpSpPr>
            <a:xfrm>
              <a:off x="2168280" y="2212920"/>
              <a:ext cx="1434960" cy="123480"/>
              <a:chOff x="2168280" y="2212920"/>
              <a:chExt cx="1434960" cy="123480"/>
            </a:xfrm>
          </p:grpSpPr>
          <p:sp>
            <p:nvSpPr>
              <p:cNvPr id="77" name=""/>
              <p:cNvSpPr/>
              <p:nvPr/>
            </p:nvSpPr>
            <p:spPr>
              <a:xfrm>
                <a:off x="2168280" y="2280960"/>
                <a:ext cx="13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3387240" y="2212920"/>
                <a:ext cx="21600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676400" y="2572920"/>
              <a:ext cx="619200" cy="251640"/>
              <a:chOff x="4676400" y="2572920"/>
              <a:chExt cx="619200" cy="25164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4676400" y="2572920"/>
                <a:ext cx="100080" cy="5040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57" y="0"/>
                    </a:moveTo>
                    <a:lnTo>
                      <a:pt x="62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4879440" y="2648880"/>
                <a:ext cx="99720" cy="5040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57" y="0"/>
                    </a:moveTo>
                    <a:lnTo>
                      <a:pt x="62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5082480" y="2725200"/>
                <a:ext cx="98280" cy="5040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56" y="0"/>
                    </a:moveTo>
                    <a:lnTo>
                      <a:pt x="61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5285880" y="2801160"/>
                <a:ext cx="9720" cy="23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5056920" y="2672640"/>
                <a:ext cx="220680" cy="129960"/>
              </a:xfrm>
              <a:custGeom>
                <a:avLst/>
                <a:gdLst/>
                <a:ahLst/>
                <a:rect l="l" t="t" r="r" b="b"/>
                <a:pathLst>
                  <a:path w="139" h="82">
                    <a:moveTo>
                      <a:pt x="0" y="81"/>
                    </a:moveTo>
                    <a:lnTo>
                      <a:pt x="110" y="0"/>
                    </a:lnTo>
                    <a:lnTo>
                      <a:pt x="138" y="7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357600" y="3051000"/>
              <a:ext cx="1434960" cy="123480"/>
              <a:chOff x="6357600" y="3051000"/>
              <a:chExt cx="1434960" cy="123480"/>
            </a:xfrm>
          </p:grpSpPr>
          <p:sp>
            <p:nvSpPr>
              <p:cNvPr id="86" name=""/>
              <p:cNvSpPr/>
              <p:nvPr/>
            </p:nvSpPr>
            <p:spPr>
              <a:xfrm>
                <a:off x="6357600" y="3118680"/>
                <a:ext cx="13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7576560" y="3051000"/>
                <a:ext cx="21564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615840" y="2280960"/>
              <a:ext cx="1054440" cy="359640"/>
              <a:chOff x="3615840" y="2280960"/>
              <a:chExt cx="1054440" cy="359640"/>
            </a:xfrm>
          </p:grpSpPr>
          <p:sp>
            <p:nvSpPr>
              <p:cNvPr id="89" name=""/>
              <p:cNvSpPr/>
              <p:nvPr/>
            </p:nvSpPr>
            <p:spPr>
              <a:xfrm>
                <a:off x="3615840" y="2280960"/>
                <a:ext cx="39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997080" y="2280960"/>
                <a:ext cx="317520" cy="31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4302000" y="2517120"/>
                <a:ext cx="368280" cy="123480"/>
                <a:chOff x="4302000" y="2517120"/>
                <a:chExt cx="368280" cy="1234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302000" y="2585160"/>
                  <a:ext cx="266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4454280" y="2517120"/>
                  <a:ext cx="216000" cy="123480"/>
                </a:xfrm>
                <a:custGeom>
                  <a:avLst/>
                  <a:gdLst/>
                  <a:ahLst/>
                  <a:rect l="l" t="t" r="r" b="b"/>
                  <a:pathLst>
                    <a:path w="136" h="78">
                      <a:moveTo>
                        <a:pt x="0" y="39"/>
                      </a:moveTo>
                      <a:lnTo>
                        <a:pt x="135" y="0"/>
                      </a:lnTo>
                      <a:lnTo>
                        <a:pt x="135" y="7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" name=""/>
            <p:cNvGrpSpPr/>
            <p:nvPr/>
          </p:nvGrpSpPr>
          <p:grpSpPr>
            <a:xfrm>
              <a:off x="5291280" y="2814480"/>
              <a:ext cx="1053720" cy="359640"/>
              <a:chOff x="5291280" y="2814480"/>
              <a:chExt cx="1053720" cy="359640"/>
            </a:xfrm>
          </p:grpSpPr>
          <p:sp>
            <p:nvSpPr>
              <p:cNvPr id="95" name=""/>
              <p:cNvSpPr/>
              <p:nvPr/>
            </p:nvSpPr>
            <p:spPr>
              <a:xfrm>
                <a:off x="5291280" y="2814480"/>
                <a:ext cx="39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73240" y="2814480"/>
                <a:ext cx="316080" cy="31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5977080" y="3050640"/>
                <a:ext cx="367920" cy="123480"/>
                <a:chOff x="5977080" y="3050640"/>
                <a:chExt cx="367920" cy="1234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977080" y="3118320"/>
                  <a:ext cx="266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6129000" y="3050640"/>
                  <a:ext cx="216000" cy="123480"/>
                </a:xfrm>
                <a:custGeom>
                  <a:avLst/>
                  <a:gdLst/>
                  <a:ahLst/>
                  <a:rect l="l" t="t" r="r" b="b"/>
                  <a:pathLst>
                    <a:path w="136" h="78">
                      <a:moveTo>
                        <a:pt x="0" y="39"/>
                      </a:moveTo>
                      <a:lnTo>
                        <a:pt x="135" y="0"/>
                      </a:lnTo>
                      <a:lnTo>
                        <a:pt x="135" y="7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0" name=""/>
          <p:cNvSpPr/>
          <p:nvPr/>
        </p:nvSpPr>
        <p:spPr>
          <a:xfrm flipH="1">
            <a:off x="2187360" y="2011320"/>
            <a:ext cx="1343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R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285960" y="2849400"/>
            <a:ext cx="1317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C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65720" y="13176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41120" y="11653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41840" y="261288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65360" y="253692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81560" y="93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89720" y="1949400"/>
            <a:ext cx="592920" cy="304920"/>
            <a:chOff x="5589720" y="1949400"/>
            <a:chExt cx="592920" cy="304920"/>
          </a:xfrm>
        </p:grpSpPr>
        <p:grpSp>
          <p:nvGrpSpPr>
            <p:cNvPr id="108" name=""/>
            <p:cNvGrpSpPr/>
            <p:nvPr/>
          </p:nvGrpSpPr>
          <p:grpSpPr>
            <a:xfrm>
              <a:off x="5594040" y="1949400"/>
              <a:ext cx="588600" cy="245880"/>
              <a:chOff x="5594040" y="1949400"/>
              <a:chExt cx="588600" cy="245880"/>
            </a:xfrm>
          </p:grpSpPr>
          <p:sp>
            <p:nvSpPr>
              <p:cNvPr id="109" name=""/>
              <p:cNvSpPr/>
              <p:nvPr/>
            </p:nvSpPr>
            <p:spPr>
              <a:xfrm>
                <a:off x="5594040" y="194940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30400" y="2011320"/>
                <a:ext cx="5522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rv_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589720" y="1968480"/>
              <a:ext cx="311040" cy="285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348640" y="43038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7080" y="380880"/>
            <a:ext cx="120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Ground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4720" y="29196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4520" y="380880"/>
            <a:ext cx="922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84520" y="787320"/>
            <a:ext cx="2749680" cy="2489040"/>
            <a:chOff x="3584520" y="787320"/>
            <a:chExt cx="2749680" cy="2489040"/>
          </a:xfrm>
        </p:grpSpPr>
        <p:sp>
          <p:nvSpPr>
            <p:cNvPr id="117" name=""/>
            <p:cNvSpPr/>
            <p:nvPr/>
          </p:nvSpPr>
          <p:spPr>
            <a:xfrm>
              <a:off x="6334200" y="79920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5440" y="78732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3280" y="78732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4520" y="81216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332040" y="860400"/>
            <a:ext cx="1436760" cy="123840"/>
            <a:chOff x="6332040" y="860400"/>
            <a:chExt cx="1436760" cy="123840"/>
          </a:xfrm>
        </p:grpSpPr>
        <p:sp>
          <p:nvSpPr>
            <p:cNvPr id="122" name=""/>
            <p:cNvSpPr/>
            <p:nvPr/>
          </p:nvSpPr>
          <p:spPr>
            <a:xfrm flipH="1">
              <a:off x="6435360" y="92880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332040" y="86040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641840" y="1220760"/>
            <a:ext cx="617040" cy="252360"/>
            <a:chOff x="4641840" y="1220760"/>
            <a:chExt cx="617040" cy="252360"/>
          </a:xfrm>
        </p:grpSpPr>
        <p:sp>
          <p:nvSpPr>
            <p:cNvPr id="125" name=""/>
            <p:cNvSpPr/>
            <p:nvPr/>
          </p:nvSpPr>
          <p:spPr>
            <a:xfrm flipH="1">
              <a:off x="5158800" y="122076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955760" y="129708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754160" y="1373400"/>
              <a:ext cx="9864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" y="0"/>
                  </a:moveTo>
                  <a:lnTo>
                    <a:pt x="0" y="12"/>
                  </a:lnTo>
                  <a:lnTo>
                    <a:pt x="56" y="31"/>
                  </a:lnTo>
                  <a:lnTo>
                    <a:pt x="61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1840" y="144936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656960" y="132084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138" y="81"/>
                  </a:moveTo>
                  <a:lnTo>
                    <a:pt x="28" y="0"/>
                  </a:lnTo>
                  <a:lnTo>
                    <a:pt x="0" y="71"/>
                  </a:lnTo>
                  <a:lnTo>
                    <a:pt x="13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42720" y="1698480"/>
            <a:ext cx="1436760" cy="123480"/>
            <a:chOff x="2142720" y="1698480"/>
            <a:chExt cx="1436760" cy="123480"/>
          </a:xfrm>
        </p:grpSpPr>
        <p:sp>
          <p:nvSpPr>
            <p:cNvPr id="131" name=""/>
            <p:cNvSpPr/>
            <p:nvPr/>
          </p:nvSpPr>
          <p:spPr>
            <a:xfrm flipH="1">
              <a:off x="2246040" y="176652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142720" y="1698480"/>
              <a:ext cx="216000" cy="12348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H="1">
            <a:off x="2225160" y="1471680"/>
            <a:ext cx="1299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265360" y="928800"/>
            <a:ext cx="1055880" cy="360360"/>
            <a:chOff x="5265360" y="928800"/>
            <a:chExt cx="1055880" cy="360360"/>
          </a:xfrm>
        </p:grpSpPr>
        <p:sp>
          <p:nvSpPr>
            <p:cNvPr id="135" name=""/>
            <p:cNvSpPr/>
            <p:nvPr/>
          </p:nvSpPr>
          <p:spPr>
            <a:xfrm flipH="1">
              <a:off x="5927400" y="928800"/>
              <a:ext cx="3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622480" y="928800"/>
              <a:ext cx="31752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265360" y="1165320"/>
              <a:ext cx="370080" cy="123840"/>
              <a:chOff x="5265360" y="1165320"/>
              <a:chExt cx="370080" cy="12384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5368680" y="123336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5265360" y="116532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3591000" y="1461960"/>
            <a:ext cx="1055520" cy="360360"/>
            <a:chOff x="3591000" y="1461960"/>
            <a:chExt cx="1055520" cy="360360"/>
          </a:xfrm>
        </p:grpSpPr>
        <p:sp>
          <p:nvSpPr>
            <p:cNvPr id="141" name=""/>
            <p:cNvSpPr/>
            <p:nvPr/>
          </p:nvSpPr>
          <p:spPr>
            <a:xfrm flipH="1">
              <a:off x="4253040" y="146196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948120" y="1461960"/>
              <a:ext cx="31608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591000" y="1698840"/>
              <a:ext cx="369720" cy="123480"/>
              <a:chOff x="3591000" y="1698840"/>
              <a:chExt cx="369720" cy="12348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3693960" y="176688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3591000" y="1698840"/>
                <a:ext cx="21600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 flipH="1">
            <a:off x="6375240" y="649440"/>
            <a:ext cx="1343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68280" y="2212920"/>
            <a:ext cx="5624280" cy="961560"/>
            <a:chOff x="2168280" y="2212920"/>
            <a:chExt cx="5624280" cy="961560"/>
          </a:xfrm>
        </p:grpSpPr>
        <p:grpSp>
          <p:nvGrpSpPr>
            <p:cNvPr id="148" name=""/>
            <p:cNvGrpSpPr/>
            <p:nvPr/>
          </p:nvGrpSpPr>
          <p:grpSpPr>
            <a:xfrm>
              <a:off x="2168280" y="2212920"/>
              <a:ext cx="1434960" cy="123480"/>
              <a:chOff x="2168280" y="2212920"/>
              <a:chExt cx="1434960" cy="123480"/>
            </a:xfrm>
          </p:grpSpPr>
          <p:sp>
            <p:nvSpPr>
              <p:cNvPr id="149" name=""/>
              <p:cNvSpPr/>
              <p:nvPr/>
            </p:nvSpPr>
            <p:spPr>
              <a:xfrm>
                <a:off x="2168280" y="2280960"/>
                <a:ext cx="13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3387240" y="2212920"/>
                <a:ext cx="21600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676400" y="2572920"/>
              <a:ext cx="619200" cy="251640"/>
              <a:chOff x="4676400" y="2572920"/>
              <a:chExt cx="619200" cy="25164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4676400" y="2572920"/>
                <a:ext cx="100080" cy="5040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57" y="0"/>
                    </a:moveTo>
                    <a:lnTo>
                      <a:pt x="62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4879440" y="2648880"/>
                <a:ext cx="99720" cy="5040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57" y="0"/>
                    </a:moveTo>
                    <a:lnTo>
                      <a:pt x="62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082480" y="2725200"/>
                <a:ext cx="98280" cy="5040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56" y="0"/>
                    </a:moveTo>
                    <a:lnTo>
                      <a:pt x="61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5285880" y="2801160"/>
                <a:ext cx="9720" cy="23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5056920" y="2672640"/>
                <a:ext cx="220680" cy="129960"/>
              </a:xfrm>
              <a:custGeom>
                <a:avLst/>
                <a:gdLst/>
                <a:ahLst/>
                <a:rect l="l" t="t" r="r" b="b"/>
                <a:pathLst>
                  <a:path w="139" h="82">
                    <a:moveTo>
                      <a:pt x="0" y="81"/>
                    </a:moveTo>
                    <a:lnTo>
                      <a:pt x="110" y="0"/>
                    </a:lnTo>
                    <a:lnTo>
                      <a:pt x="138" y="7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357600" y="3051000"/>
              <a:ext cx="1434960" cy="123480"/>
              <a:chOff x="6357600" y="3051000"/>
              <a:chExt cx="1434960" cy="123480"/>
            </a:xfrm>
          </p:grpSpPr>
          <p:sp>
            <p:nvSpPr>
              <p:cNvPr id="158" name=""/>
              <p:cNvSpPr/>
              <p:nvPr/>
            </p:nvSpPr>
            <p:spPr>
              <a:xfrm>
                <a:off x="6357600" y="3118680"/>
                <a:ext cx="13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7576560" y="3051000"/>
                <a:ext cx="21564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615840" y="2280960"/>
              <a:ext cx="1054440" cy="359640"/>
              <a:chOff x="3615840" y="2280960"/>
              <a:chExt cx="1054440" cy="359640"/>
            </a:xfrm>
          </p:grpSpPr>
          <p:sp>
            <p:nvSpPr>
              <p:cNvPr id="161" name=""/>
              <p:cNvSpPr/>
              <p:nvPr/>
            </p:nvSpPr>
            <p:spPr>
              <a:xfrm>
                <a:off x="3615840" y="2280960"/>
                <a:ext cx="39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97080" y="2280960"/>
                <a:ext cx="317520" cy="31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4302000" y="2517120"/>
                <a:ext cx="368280" cy="123480"/>
                <a:chOff x="4302000" y="2517120"/>
                <a:chExt cx="368280" cy="123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302000" y="2585160"/>
                  <a:ext cx="266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4454280" y="2517120"/>
                  <a:ext cx="216000" cy="123480"/>
                </a:xfrm>
                <a:custGeom>
                  <a:avLst/>
                  <a:gdLst/>
                  <a:ahLst/>
                  <a:rect l="l" t="t" r="r" b="b"/>
                  <a:pathLst>
                    <a:path w="136" h="78">
                      <a:moveTo>
                        <a:pt x="0" y="39"/>
                      </a:moveTo>
                      <a:lnTo>
                        <a:pt x="135" y="0"/>
                      </a:lnTo>
                      <a:lnTo>
                        <a:pt x="135" y="7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5291280" y="2814480"/>
              <a:ext cx="1053720" cy="359640"/>
              <a:chOff x="5291280" y="2814480"/>
              <a:chExt cx="1053720" cy="359640"/>
            </a:xfrm>
          </p:grpSpPr>
          <p:sp>
            <p:nvSpPr>
              <p:cNvPr id="167" name=""/>
              <p:cNvSpPr/>
              <p:nvPr/>
            </p:nvSpPr>
            <p:spPr>
              <a:xfrm>
                <a:off x="5291280" y="2814480"/>
                <a:ext cx="39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73240" y="2814480"/>
                <a:ext cx="316080" cy="31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977080" y="3050640"/>
                <a:ext cx="367920" cy="123480"/>
                <a:chOff x="5977080" y="3050640"/>
                <a:chExt cx="367920" cy="123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977080" y="3118320"/>
                  <a:ext cx="266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6129000" y="3050640"/>
                  <a:ext cx="216000" cy="123480"/>
                </a:xfrm>
                <a:custGeom>
                  <a:avLst/>
                  <a:gdLst/>
                  <a:ahLst/>
                  <a:rect l="l" t="t" r="r" b="b"/>
                  <a:pathLst>
                    <a:path w="136" h="78">
                      <a:moveTo>
                        <a:pt x="0" y="39"/>
                      </a:moveTo>
                      <a:lnTo>
                        <a:pt x="135" y="0"/>
                      </a:lnTo>
                      <a:lnTo>
                        <a:pt x="135" y="7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" name=""/>
          <p:cNvSpPr/>
          <p:nvPr/>
        </p:nvSpPr>
        <p:spPr>
          <a:xfrm flipH="1">
            <a:off x="2219040" y="2003400"/>
            <a:ext cx="1343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R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339960" y="2857680"/>
            <a:ext cx="1317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C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66080" y="1317600"/>
            <a:ext cx="79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41120" y="1165320"/>
            <a:ext cx="75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42200" y="2612880"/>
            <a:ext cx="79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65360" y="2536920"/>
            <a:ext cx="75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81560" y="93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589720" y="1949400"/>
            <a:ext cx="592920" cy="304920"/>
            <a:chOff x="5589720" y="1949400"/>
            <a:chExt cx="592920" cy="304920"/>
          </a:xfrm>
        </p:grpSpPr>
        <p:grpSp>
          <p:nvGrpSpPr>
            <p:cNvPr id="180" name=""/>
            <p:cNvGrpSpPr/>
            <p:nvPr/>
          </p:nvGrpSpPr>
          <p:grpSpPr>
            <a:xfrm>
              <a:off x="5594040" y="1949400"/>
              <a:ext cx="588600" cy="245880"/>
              <a:chOff x="5594040" y="1949400"/>
              <a:chExt cx="588600" cy="245880"/>
            </a:xfrm>
          </p:grpSpPr>
          <p:sp>
            <p:nvSpPr>
              <p:cNvPr id="181" name=""/>
              <p:cNvSpPr/>
              <p:nvPr/>
            </p:nvSpPr>
            <p:spPr>
              <a:xfrm>
                <a:off x="5594040" y="194940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30400" y="2011320"/>
                <a:ext cx="5522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rv_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5589720" y="1968480"/>
              <a:ext cx="311040" cy="285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958840" y="42274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849320" y="1771560"/>
            <a:ext cx="811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76960" y="177156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62680" y="1762200"/>
            <a:ext cx="811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550280" y="2610000"/>
            <a:ext cx="144360" cy="2122200"/>
            <a:chOff x="7550280" y="2610000"/>
            <a:chExt cx="144360" cy="2122200"/>
          </a:xfrm>
        </p:grpSpPr>
        <p:sp>
          <p:nvSpPr>
            <p:cNvPr id="189" name=""/>
            <p:cNvSpPr/>
            <p:nvPr/>
          </p:nvSpPr>
          <p:spPr>
            <a:xfrm>
              <a:off x="7615080" y="2610000"/>
              <a:ext cx="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40640" y="2610000"/>
              <a:ext cx="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0280" y="4492800"/>
              <a:ext cx="144360" cy="239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45" y="150"/>
                  </a:moveTo>
                  <a:lnTo>
                    <a:pt x="90" y="0"/>
                  </a:lnTo>
                  <a:lnTo>
                    <a:pt x="0" y="0"/>
                  </a:lnTo>
                  <a:lnTo>
                    <a:pt x="45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189920" y="3214800"/>
            <a:ext cx="279360" cy="637560"/>
            <a:chOff x="7189920" y="3214800"/>
            <a:chExt cx="279360" cy="637560"/>
          </a:xfrm>
        </p:grpSpPr>
        <p:sp>
          <p:nvSpPr>
            <p:cNvPr id="193" name=""/>
            <p:cNvSpPr/>
            <p:nvPr/>
          </p:nvSpPr>
          <p:spPr>
            <a:xfrm>
              <a:off x="7201800" y="321480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21240" y="335124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89920" y="348624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98920" y="362268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981160" y="2266920"/>
            <a:ext cx="2741760" cy="2662200"/>
            <a:chOff x="2981160" y="2266920"/>
            <a:chExt cx="2741760" cy="2662200"/>
          </a:xfrm>
        </p:grpSpPr>
        <p:sp>
          <p:nvSpPr>
            <p:cNvPr id="198" name=""/>
            <p:cNvSpPr/>
            <p:nvPr/>
          </p:nvSpPr>
          <p:spPr>
            <a:xfrm>
              <a:off x="5722920" y="2306160"/>
              <a:ext cx="0" cy="26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56240" y="2266920"/>
              <a:ext cx="0" cy="26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48200" y="2266920"/>
              <a:ext cx="0" cy="26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81160" y="2266920"/>
              <a:ext cx="0" cy="26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533600" y="2449440"/>
            <a:ext cx="1436760" cy="123840"/>
            <a:chOff x="1533600" y="2449440"/>
            <a:chExt cx="1436760" cy="123840"/>
          </a:xfrm>
        </p:grpSpPr>
        <p:sp>
          <p:nvSpPr>
            <p:cNvPr id="203" name=""/>
            <p:cNvSpPr/>
            <p:nvPr/>
          </p:nvSpPr>
          <p:spPr>
            <a:xfrm>
              <a:off x="1533600" y="251784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54360" y="244944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043520" y="2809800"/>
            <a:ext cx="617040" cy="252360"/>
            <a:chOff x="4043520" y="2809800"/>
            <a:chExt cx="617040" cy="252360"/>
          </a:xfrm>
        </p:grpSpPr>
        <p:sp>
          <p:nvSpPr>
            <p:cNvPr id="206" name=""/>
            <p:cNvSpPr/>
            <p:nvPr/>
          </p:nvSpPr>
          <p:spPr>
            <a:xfrm>
              <a:off x="4043520" y="280980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6560" y="288612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49600" y="2962440"/>
              <a:ext cx="9864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" y="0"/>
                  </a:moveTo>
                  <a:lnTo>
                    <a:pt x="0" y="12"/>
                  </a:lnTo>
                  <a:lnTo>
                    <a:pt x="56" y="31"/>
                  </a:lnTo>
                  <a:lnTo>
                    <a:pt x="61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650840" y="303840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24400" y="290988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138" y="81"/>
                  </a:moveTo>
                  <a:lnTo>
                    <a:pt x="28" y="0"/>
                  </a:lnTo>
                  <a:lnTo>
                    <a:pt x="0" y="71"/>
                  </a:lnTo>
                  <a:lnTo>
                    <a:pt x="13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722920" y="3287880"/>
            <a:ext cx="1436760" cy="123480"/>
            <a:chOff x="5722920" y="3287880"/>
            <a:chExt cx="1436760" cy="123480"/>
          </a:xfrm>
        </p:grpSpPr>
        <p:sp>
          <p:nvSpPr>
            <p:cNvPr id="212" name=""/>
            <p:cNvSpPr/>
            <p:nvPr/>
          </p:nvSpPr>
          <p:spPr>
            <a:xfrm>
              <a:off x="5722920" y="335592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3680" y="3287880"/>
              <a:ext cx="216000" cy="12348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733720" y="3084480"/>
            <a:ext cx="136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update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981160" y="2517840"/>
            <a:ext cx="1055880" cy="360360"/>
            <a:chOff x="2981160" y="2517840"/>
            <a:chExt cx="1055880" cy="360360"/>
          </a:xfrm>
        </p:grpSpPr>
        <p:sp>
          <p:nvSpPr>
            <p:cNvPr id="216" name=""/>
            <p:cNvSpPr/>
            <p:nvPr/>
          </p:nvSpPr>
          <p:spPr>
            <a:xfrm>
              <a:off x="2981160" y="2517840"/>
              <a:ext cx="3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62400" y="2517840"/>
              <a:ext cx="31752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666960" y="2754360"/>
              <a:ext cx="370080" cy="123840"/>
              <a:chOff x="3666960" y="2754360"/>
              <a:chExt cx="370080" cy="123840"/>
            </a:xfrm>
          </p:grpSpPr>
          <p:sp>
            <p:nvSpPr>
              <p:cNvPr id="219" name=""/>
              <p:cNvSpPr/>
              <p:nvPr/>
            </p:nvSpPr>
            <p:spPr>
              <a:xfrm>
                <a:off x="3666960" y="282240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1040" y="275436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4656240" y="3051000"/>
            <a:ext cx="1055520" cy="360360"/>
            <a:chOff x="4656240" y="3051000"/>
            <a:chExt cx="1055520" cy="360360"/>
          </a:xfrm>
        </p:grpSpPr>
        <p:sp>
          <p:nvSpPr>
            <p:cNvPr id="222" name=""/>
            <p:cNvSpPr/>
            <p:nvPr/>
          </p:nvSpPr>
          <p:spPr>
            <a:xfrm>
              <a:off x="4656240" y="305100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8560" y="3051000"/>
              <a:ext cx="31608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5342040" y="3287880"/>
              <a:ext cx="369720" cy="123480"/>
              <a:chOff x="5342040" y="3287880"/>
              <a:chExt cx="369720" cy="123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342040" y="335592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495760" y="3287880"/>
                <a:ext cx="21600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1481040" y="2268360"/>
            <a:ext cx="1407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update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037040" y="3987720"/>
            <a:ext cx="619200" cy="252360"/>
            <a:chOff x="4037040" y="3987720"/>
            <a:chExt cx="619200" cy="252360"/>
          </a:xfrm>
        </p:grpSpPr>
        <p:sp>
          <p:nvSpPr>
            <p:cNvPr id="229" name=""/>
            <p:cNvSpPr/>
            <p:nvPr/>
          </p:nvSpPr>
          <p:spPr>
            <a:xfrm>
              <a:off x="4556160" y="398772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7" y="0"/>
                  </a:moveTo>
                  <a:lnTo>
                    <a:pt x="62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53120" y="406404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7" y="0"/>
                  </a:moveTo>
                  <a:lnTo>
                    <a:pt x="62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51520" y="414036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6" y="0"/>
                  </a:moveTo>
                  <a:lnTo>
                    <a:pt x="61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37040" y="421632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54680" y="408780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0" y="81"/>
                  </a:moveTo>
                  <a:lnTo>
                    <a:pt x="110" y="0"/>
                  </a:lnTo>
                  <a:lnTo>
                    <a:pt x="138" y="71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 flipH="1">
            <a:off x="4843440" y="4000680"/>
            <a:ext cx="393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662360" y="3932280"/>
            <a:ext cx="367920" cy="123840"/>
            <a:chOff x="4662360" y="3932280"/>
            <a:chExt cx="367920" cy="123840"/>
          </a:xfrm>
        </p:grpSpPr>
        <p:sp>
          <p:nvSpPr>
            <p:cNvPr id="236" name=""/>
            <p:cNvSpPr/>
            <p:nvPr/>
          </p:nvSpPr>
          <p:spPr>
            <a:xfrm flipH="1">
              <a:off x="4763880" y="4000680"/>
              <a:ext cx="26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62360" y="3932280"/>
              <a:ext cx="21564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0" y="39"/>
                  </a:moveTo>
                  <a:lnTo>
                    <a:pt x="135" y="0"/>
                  </a:lnTo>
                  <a:lnTo>
                    <a:pt x="135" y="77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987640" y="4229280"/>
            <a:ext cx="1053720" cy="360360"/>
            <a:chOff x="2987640" y="4229280"/>
            <a:chExt cx="1053720" cy="360360"/>
          </a:xfrm>
        </p:grpSpPr>
        <p:sp>
          <p:nvSpPr>
            <p:cNvPr id="239" name=""/>
            <p:cNvSpPr/>
            <p:nvPr/>
          </p:nvSpPr>
          <p:spPr>
            <a:xfrm flipH="1">
              <a:off x="3647880" y="422928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343320" y="4229280"/>
              <a:ext cx="316080" cy="31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2987640" y="4465800"/>
              <a:ext cx="367920" cy="123840"/>
              <a:chOff x="2987640" y="4465800"/>
              <a:chExt cx="367920" cy="12384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3088800" y="453384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987640" y="446580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3314880" y="2536920"/>
            <a:ext cx="0" cy="198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17520" y="3314880"/>
            <a:ext cx="474480" cy="307440"/>
            <a:chOff x="3017520" y="3314880"/>
            <a:chExt cx="474480" cy="307440"/>
          </a:xfrm>
        </p:grpSpPr>
        <p:sp>
          <p:nvSpPr>
            <p:cNvPr id="246" name=""/>
            <p:cNvSpPr/>
            <p:nvPr/>
          </p:nvSpPr>
          <p:spPr>
            <a:xfrm>
              <a:off x="3032280" y="3332160"/>
              <a:ext cx="387000" cy="29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017520" y="3314880"/>
              <a:ext cx="474480" cy="245520"/>
              <a:chOff x="3017520" y="3314880"/>
              <a:chExt cx="474480" cy="245520"/>
            </a:xfrm>
          </p:grpSpPr>
          <p:sp>
            <p:nvSpPr>
              <p:cNvPr id="248" name=""/>
              <p:cNvSpPr/>
              <p:nvPr/>
            </p:nvSpPr>
            <p:spPr>
              <a:xfrm>
                <a:off x="3017520" y="331488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53880" y="3376440"/>
                <a:ext cx="43812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updat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>
            <a:off x="3086280" y="22860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53800" y="278928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70720" y="40464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15800" y="458640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05840" y="57513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82120" y="1668600"/>
            <a:ext cx="141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Ground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742000" y="3208320"/>
            <a:ext cx="1447920" cy="136440"/>
            <a:chOff x="5742000" y="3208320"/>
            <a:chExt cx="1447920" cy="136440"/>
          </a:xfrm>
        </p:grpSpPr>
        <p:sp>
          <p:nvSpPr>
            <p:cNvPr id="257" name=""/>
            <p:cNvSpPr/>
            <p:nvPr/>
          </p:nvSpPr>
          <p:spPr>
            <a:xfrm>
              <a:off x="5742000" y="3276720"/>
              <a:ext cx="13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61320" y="3208320"/>
              <a:ext cx="228600" cy="136440"/>
            </a:xfrm>
            <a:custGeom>
              <a:avLst/>
              <a:gdLst/>
              <a:ahLst/>
              <a:rect l="l" t="t" r="r" b="b"/>
              <a:pathLst>
                <a:path w="144" h="86">
                  <a:moveTo>
                    <a:pt x="143" y="43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43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062240" y="2732040"/>
            <a:ext cx="636840" cy="255600"/>
            <a:chOff x="4062240" y="2732040"/>
            <a:chExt cx="636840" cy="255600"/>
          </a:xfrm>
        </p:grpSpPr>
        <p:sp>
          <p:nvSpPr>
            <p:cNvPr id="260" name=""/>
            <p:cNvSpPr/>
            <p:nvPr/>
          </p:nvSpPr>
          <p:spPr>
            <a:xfrm>
              <a:off x="4062240" y="2732040"/>
              <a:ext cx="113040" cy="637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6" y="0"/>
                  </a:moveTo>
                  <a:lnTo>
                    <a:pt x="0" y="15"/>
                  </a:lnTo>
                  <a:lnTo>
                    <a:pt x="64" y="39"/>
                  </a:lnTo>
                  <a:lnTo>
                    <a:pt x="70" y="24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65640" y="2808360"/>
              <a:ext cx="11268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6" y="0"/>
                  </a:moveTo>
                  <a:lnTo>
                    <a:pt x="0" y="15"/>
                  </a:lnTo>
                  <a:lnTo>
                    <a:pt x="64" y="39"/>
                  </a:lnTo>
                  <a:lnTo>
                    <a:pt x="70" y="24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68680" y="2884320"/>
              <a:ext cx="112680" cy="637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6" y="0"/>
                  </a:moveTo>
                  <a:lnTo>
                    <a:pt x="0" y="15"/>
                  </a:lnTo>
                  <a:lnTo>
                    <a:pt x="64" y="39"/>
                  </a:lnTo>
                  <a:lnTo>
                    <a:pt x="70" y="24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72080" y="2960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43480" y="2832120"/>
              <a:ext cx="234720" cy="142920"/>
            </a:xfrm>
            <a:custGeom>
              <a:avLst/>
              <a:gdLst/>
              <a:ahLst/>
              <a:rect l="l" t="t" r="r" b="b"/>
              <a:pathLst>
                <a:path w="148" h="90">
                  <a:moveTo>
                    <a:pt x="147" y="89"/>
                  </a:moveTo>
                  <a:lnTo>
                    <a:pt x="30" y="0"/>
                  </a:lnTo>
                  <a:lnTo>
                    <a:pt x="0" y="78"/>
                  </a:lnTo>
                  <a:lnTo>
                    <a:pt x="147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557360" y="2373480"/>
            <a:ext cx="1446120" cy="136440"/>
            <a:chOff x="1557360" y="2373480"/>
            <a:chExt cx="1446120" cy="136440"/>
          </a:xfrm>
        </p:grpSpPr>
        <p:sp>
          <p:nvSpPr>
            <p:cNvPr id="266" name=""/>
            <p:cNvSpPr/>
            <p:nvPr/>
          </p:nvSpPr>
          <p:spPr>
            <a:xfrm>
              <a:off x="1557360" y="2441520"/>
              <a:ext cx="13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6680" y="2373480"/>
              <a:ext cx="226800" cy="136440"/>
            </a:xfrm>
            <a:custGeom>
              <a:avLst/>
              <a:gdLst/>
              <a:ahLst/>
              <a:rect l="l" t="t" r="r" b="b"/>
              <a:pathLst>
                <a:path w="143" h="86">
                  <a:moveTo>
                    <a:pt x="142" y="43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825880" y="3019320"/>
            <a:ext cx="136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update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97480" y="166860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14800" y="1668600"/>
            <a:ext cx="107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566120" y="1755720"/>
            <a:ext cx="156960" cy="2130480"/>
            <a:chOff x="7566120" y="1755720"/>
            <a:chExt cx="156960" cy="2130480"/>
          </a:xfrm>
        </p:grpSpPr>
        <p:sp>
          <p:nvSpPr>
            <p:cNvPr id="272" name=""/>
            <p:cNvSpPr/>
            <p:nvPr/>
          </p:nvSpPr>
          <p:spPr>
            <a:xfrm>
              <a:off x="7631280" y="1755720"/>
              <a:ext cx="0" cy="19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56480" y="1755720"/>
              <a:ext cx="0" cy="19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66120" y="3633840"/>
              <a:ext cx="156960" cy="252360"/>
            </a:xfrm>
            <a:custGeom>
              <a:avLst/>
              <a:gdLst/>
              <a:ahLst/>
              <a:rect l="l" t="t" r="r" b="b"/>
              <a:pathLst>
                <a:path w="99" h="159">
                  <a:moveTo>
                    <a:pt x="49" y="158"/>
                  </a:moveTo>
                  <a:lnTo>
                    <a:pt x="98" y="0"/>
                  </a:lnTo>
                  <a:lnTo>
                    <a:pt x="0" y="0"/>
                  </a:lnTo>
                  <a:lnTo>
                    <a:pt x="49" y="1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194600" y="2344680"/>
            <a:ext cx="279360" cy="639360"/>
            <a:chOff x="7194600" y="2344680"/>
            <a:chExt cx="279360" cy="639360"/>
          </a:xfrm>
        </p:grpSpPr>
        <p:sp>
          <p:nvSpPr>
            <p:cNvPr id="276" name=""/>
            <p:cNvSpPr/>
            <p:nvPr/>
          </p:nvSpPr>
          <p:spPr>
            <a:xfrm>
              <a:off x="7206840" y="234468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5920" y="248112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94600" y="261792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03600" y="275436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612800" y="2508120"/>
            <a:ext cx="1407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update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95000" y="2190600"/>
            <a:ext cx="870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-DATA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676760" y="2973240"/>
            <a:ext cx="1066680" cy="371520"/>
            <a:chOff x="4676760" y="2973240"/>
            <a:chExt cx="1066680" cy="371520"/>
          </a:xfrm>
        </p:grpSpPr>
        <p:sp>
          <p:nvSpPr>
            <p:cNvPr id="283" name=""/>
            <p:cNvSpPr/>
            <p:nvPr/>
          </p:nvSpPr>
          <p:spPr>
            <a:xfrm>
              <a:off x="4676760" y="2973240"/>
              <a:ext cx="3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57640" y="2973240"/>
              <a:ext cx="316080" cy="31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361120" y="3208320"/>
              <a:ext cx="382320" cy="136440"/>
              <a:chOff x="5361120" y="3208320"/>
              <a:chExt cx="382320" cy="136440"/>
            </a:xfrm>
          </p:grpSpPr>
          <p:sp>
            <p:nvSpPr>
              <p:cNvPr id="286" name=""/>
              <p:cNvSpPr/>
              <p:nvPr/>
            </p:nvSpPr>
            <p:spPr>
              <a:xfrm>
                <a:off x="5361120" y="327672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14840" y="32083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002040" y="2441520"/>
            <a:ext cx="1066680" cy="371520"/>
            <a:chOff x="3002040" y="2441520"/>
            <a:chExt cx="1066680" cy="371520"/>
          </a:xfrm>
        </p:grpSpPr>
        <p:sp>
          <p:nvSpPr>
            <p:cNvPr id="289" name=""/>
            <p:cNvSpPr/>
            <p:nvPr/>
          </p:nvSpPr>
          <p:spPr>
            <a:xfrm>
              <a:off x="3002040" y="244152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84720" y="2441520"/>
              <a:ext cx="315720" cy="31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687840" y="2676600"/>
              <a:ext cx="380880" cy="136440"/>
              <a:chOff x="3687840" y="2676600"/>
              <a:chExt cx="380880" cy="136440"/>
            </a:xfrm>
          </p:grpSpPr>
          <p:sp>
            <p:nvSpPr>
              <p:cNvPr id="292" name=""/>
              <p:cNvSpPr/>
              <p:nvPr/>
            </p:nvSpPr>
            <p:spPr>
              <a:xfrm>
                <a:off x="3687840" y="274464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41920" y="2676600"/>
                <a:ext cx="226800" cy="13644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42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2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4822200" y="2735280"/>
            <a:ext cx="826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-DATA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002040" y="2174760"/>
            <a:ext cx="2739960" cy="1635120"/>
            <a:chOff x="3002040" y="2174760"/>
            <a:chExt cx="2739960" cy="1635120"/>
          </a:xfrm>
        </p:grpSpPr>
        <p:sp>
          <p:nvSpPr>
            <p:cNvPr id="296" name=""/>
            <p:cNvSpPr/>
            <p:nvPr/>
          </p:nvSpPr>
          <p:spPr>
            <a:xfrm>
              <a:off x="5742000" y="2174760"/>
              <a:ext cx="0" cy="16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76760" y="2174760"/>
              <a:ext cx="0" cy="16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7280" y="2174760"/>
              <a:ext cx="0" cy="16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02040" y="2174760"/>
              <a:ext cx="0" cy="16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2958120" y="55227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20:27:10Z</dcterms:created>
  <dc:creator>James Moulton</dc:creator>
  <dc:description/>
  <dc:language>en-US</dc:language>
  <cp:lastModifiedBy>James Moulton</cp:lastModifiedBy>
  <dcterms:modified xsi:type="dcterms:W3CDTF">1999-01-18T20:31:54Z</dcterms:modified>
  <cp:revision>2</cp:revision>
  <dc:subject/>
  <dc:title>No Slide Title</dc:title>
</cp:coreProperties>
</file>