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A4772D-F983-4048-9BBE-3C82900B7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o strong teams have been selected, with a great deal of organizational continuity between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European membership virtually assures continued coordination with EurATN and Euro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th teams have shown extraordinary flexibility in meeting our tight cost and tim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most crucial element of the project status is the risk associated with two U. S. Government agenci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’ll briefly review all the risks we have considered in our plan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 is widespread consensus on the need for a data communications infrastructure to support FA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-Benefit analyses answer two ques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at is the delta benefit of data comm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The answer to this question will drive project cost deci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en does the data comm technology need to be in place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The answer to this will drive project start deci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der the terms of the Cooperative agreement, our eleven airlines agreed to provide aircraft and certain technical and managerial input into the design and procurement of the ATN Router softwar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further broke that down i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RI ==&gt; The working software which handles the routing of traffic between air and ground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TS ==&gt;  The suite of software and hardware which will be used to assure each airline that their implementation complies with th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 has been significant interest shown by several international airlines and CA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mal discussions have begun with some of these groups to infuse cash into the project in exchange for some class of membershi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’d like to emphasize a few elements of our four strateg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is essential to F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rtification is a time-consuming step following the current contra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 was a great deal of importance attached to this partnership as part of the reinventing government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order to for ATN to have value as a network, it must carry value added applicatoi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order for FANS to work, one of the prime applications must be the ATM features of each CAA’s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made profit a secondary consid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etheless, there is a substantial upside to such arrangement which goes far beyond the current project, if the airlines pursu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823240" y="650880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99A91FD-F4A3-48E4-AAF8-554853873B5F}" type="slidenum">
              <a:rPr b="0" i="1" lang="en-US" sz="1400" spc="-1" strike="noStrike">
                <a:solidFill>
                  <a:srgbClr val="474747"/>
                </a:solidFill>
                <a:latin typeface="Arial Rounded MT Bold"/>
                <a:ea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914400"/>
            <a:ext cx="7848720" cy="34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esentation to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FAA C/SOI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October 8, 1996</a:t>
            </a:r>
            <a:br>
              <a:rPr sz="3600"/>
            </a:br>
            <a:br>
              <a:rPr sz="3600"/>
            </a:br>
            <a:r>
              <a:rPr b="0" i="1" lang="en-US" sz="5400" spc="-1" strike="noStrike">
                <a:solidFill>
                  <a:srgbClr val="dadada"/>
                </a:solidFill>
                <a:latin typeface="Arial Rounded MT Bold"/>
                <a:ea typeface="Arial Rounded MT Bold"/>
              </a:rPr>
              <a:t>ATN Router Projec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5080" y="4286160"/>
            <a:ext cx="6289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ul Hennig, United Air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NSI Board Advi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6640" y="459432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 Router Project St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600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ndor Teams Se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9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outer Reference Implementation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lied Sig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Honeywell, Sextant, Sofreavia, Thomson-CSF, Ver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ormance Test Suit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RIN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Allied-Signal, Sextant, Sofreavia, Thomson-CS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ra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t 96: FAA Approval of Con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6: Project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 Router Project 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27240" y="1762200"/>
            <a:ext cx="703584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 the Aeronautical Telecommunication Network (AT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uct an In-Service Operational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ined Controllers usin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ertifi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Groun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ined Pilots usin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ertifi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Avi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monstrate National/ICAO-Defined 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ilitate Airline Avionics Programs to Support a 75% Fleet upgrade to CNS/ATM-1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ogram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59000" y="1762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0: Project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1: Product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116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A: Reqmts Def    1B:  CTS Dvpt   1C:  RRI Dv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2: Product Test/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3: System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116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A: Avionics Cust’n   3B: Ground Sys Cust’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4: System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116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A: Certification    4B:  Ops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5: Product Licen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82560" y="1643040"/>
            <a:ext cx="0" cy="3962520"/>
          </a:xfrm>
          <a:prstGeom prst="line">
            <a:avLst/>
          </a:prstGeom>
          <a:ln w="38160">
            <a:solidFill>
              <a:srgbClr val="fc0128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652760"/>
            <a:ext cx="2749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duct 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duct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stem 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stem 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duct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80240" y="5661000"/>
            <a:ext cx="974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Month +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1280" y="1676520"/>
            <a:ext cx="0" cy="3962160"/>
          </a:xfrm>
          <a:prstGeom prst="line">
            <a:avLst/>
          </a:prstGeom>
          <a:ln w="38160">
            <a:solidFill>
              <a:srgbClr val="fc0128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57360" y="3352680"/>
            <a:ext cx="373392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34080" y="2438280"/>
            <a:ext cx="45720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57360" y="1676520"/>
            <a:ext cx="327672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1280" y="4114800"/>
            <a:ext cx="182880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37000" y="269064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057560" y="192888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65800" y="436572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37000" y="360360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504040" y="528012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20080" y="1676520"/>
            <a:ext cx="0" cy="3962160"/>
          </a:xfrm>
          <a:prstGeom prst="line">
            <a:avLst/>
          </a:prstGeom>
          <a:ln w="38160">
            <a:solidFill>
              <a:srgbClr val="fc0128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60480" y="5691240"/>
            <a:ext cx="1241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ec 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Project Sta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11800" y="5691240"/>
            <a:ext cx="1805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ec 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Products Accep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91360" y="5691240"/>
            <a:ext cx="17049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ec 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Op Eval Comple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1640" y="4952880"/>
            <a:ext cx="220968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ogram Plan Milest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6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7/May 98:  Interim Deliv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g 98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l Product Deliv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8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iance Testing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n 99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125 Certification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9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rational Evaluation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Q99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l Operational Capability in the North Atlan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12800" y="29196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eliminary Cost Analy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y Delta and 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9560" y="1523880"/>
            <a:ext cx="8170920" cy="43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NS/ATM-1 767-300 ER Cos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st Case Cost - One Aircraft with no existing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alysis Incorporates all equipment for CNS/ATM-1 upgrade, much more than just ATN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tual cost will be lower if airline allocates specific equipment costs to other program or to specific equipment already inst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tual cost will be lower due to discount bu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ffered price may be lower due to reduced market r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ther Aircraft will be costed in follow-on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st Break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$   600k (without SATCOM co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$1,000k (with SATCOM co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CNS/ATM-1 Equi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81080"/>
            <a:ext cx="7772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m Management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d Flight Management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Control/Display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d Engine Indication and Crew Aler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PS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TCOM/VHF/HF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veral Other Equipment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enefit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NS/ATM-1 Benefit Analysi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mits each airline to determine regional benefits for specific airlin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  State” Benefits are Targ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l Study: 767-300 (North Atlant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nefit: $10M/yr (20 Aircraf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turn on Investment: 1.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ssumes Benefits in 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317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enefits Enabled by AT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6640" y="1525680"/>
            <a:ext cx="73756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A Cost/Benefit Studies estimat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$338 mil/yr in enroute airline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min delay reduction at each air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irport capacity incr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y Groups at Boeing, UAL developed complete cost-benefit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ions are that Free Flight will provide 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% improvement in oceanic Direct Operating Costs (DOCs), half attributable to datalink comm and half to GPS and 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e that whatever the software chosen, CNS/ATM-1 equipage will be non-trivial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t/Benefit Models In-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irlines are in the Process of Making Fleet Equippage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N Router Project is a “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28600"/>
            <a:ext cx="7756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esentation 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7880" y="2116080"/>
            <a:ext cx="757872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Background, Objectives,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ATN Router Projec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Action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ATN Costs and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22320" y="795240"/>
            <a:ext cx="75042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76400" y="1735200"/>
            <a:ext cx="75852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00000"/>
              </a:lnSpc>
              <a:spcBef>
                <a:spcPts val="1199"/>
              </a:spcBef>
              <a:spcAft>
                <a:spcPts val="96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dadada"/>
                </a:solidFill>
                <a:latin typeface="Arial"/>
                <a:ea typeface="Arial"/>
              </a:rPr>
              <a:t>ATNSI is a corporation of 11 US Air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dadada"/>
                </a:solidFill>
                <a:latin typeface="Arial"/>
                <a:ea typeface="Arial"/>
              </a:rPr>
              <a:t>ATNSI has entered into a Cooperative Agreement with the FAA to develop a certified ATN Router Reference Implementation (RRI) and a Conformance Test Suite (C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dadada"/>
                </a:solidFill>
                <a:latin typeface="Arial"/>
                <a:ea typeface="Arial"/>
              </a:rPr>
              <a:t>FAA contributes cash and technical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dadada"/>
                </a:solidFill>
                <a:latin typeface="Arial"/>
                <a:ea typeface="Arial"/>
              </a:rPr>
              <a:t>ATNSI Airlines contribute aircraft and management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79840" y="6270480"/>
            <a:ext cx="4022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N = Aeronautical Telecommunication Net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Airline Particip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ka Air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waiian Airlin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erican Air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rthwest Air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erican Trans 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ited Air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inental Air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ited Parce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ta Air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i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deral Exp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Non-Airline Particip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deral Aviation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artment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41520" y="868320"/>
            <a:ext cx="61628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otential ATNSI </a:t>
            </a: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articip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20600" y="2300400"/>
            <a:ext cx="32796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l Al Israel Air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uropean 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sian Carrie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495680" y="2279520"/>
            <a:ext cx="337824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uroContr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ansport Cana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ir Services Austr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Japan C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Strategic Objectives</a:t>
            </a:r>
            <a:br>
              <a:rPr sz="3600"/>
            </a:b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1 of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08000" y="1812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reate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sily certified mobile ATN Rou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upport the ATN as a worldwide standard for advanced air/ground data communications as a critical deliverable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NS/ATM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irm the ability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ivate/gover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n aviation to effectively bring complex production systems into regular operationa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22840" y="6270480"/>
            <a:ext cx="317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NS = Future Air Navigation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Strategic Objectives</a:t>
            </a:r>
            <a:r>
              <a:rPr b="0" i="1" lang="en-US" sz="14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 (</a:t>
            </a:r>
            <a:br>
              <a:rPr sz="1400"/>
            </a:b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2 of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600200"/>
            <a:ext cx="782640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9880" indent="-32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ist the achievement of Free Flight in domestic and international airline operations through the deployment of ATN Data Communications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raffic Management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71720" y="1811160"/>
            <a:ext cx="5800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 (B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ve Agreement Management Committee (CAMC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NSI Infrastructure Working Group (IW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F. John</dc:creator>
  <dc:description/>
  <dc:language>en-US</dc:language>
  <cp:lastModifiedBy>a</cp:lastModifiedBy>
  <cp:revision>0</cp:revision>
  <dc:subject/>
  <dc:title>ATNSI @ FedEx 9/24/96</dc:title>
</cp:coreProperties>
</file>