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ic vs Asymmet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’s of times less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for real time multitas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 can’t meet response tim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working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tasking cache thrashing exacerbates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tures won’t fit in a 128 bi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times smaller keys to transfer and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ic vs Asymmet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’t authenticate to an individual, only to a group (can be as small as 2 mem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ndependent third party adju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on-repu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transmission must be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ably requires increased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(session) key chan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urs temporal boundary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“Directory” Cryp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31240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31240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37339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37339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37339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37339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371600" y="342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971800" y="342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905120" y="2895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342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42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281952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327672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371600" y="3962520"/>
            <a:ext cx="1143000" cy="98892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495288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338880" y="1935000"/>
            <a:ext cx="1941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37160" y="5364000"/>
            <a:ext cx="1744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857680" y="4038480"/>
            <a:ext cx="723600" cy="8748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28640" y="4479840"/>
            <a:ext cx="59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69960" y="2955960"/>
            <a:ext cx="709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533412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  <a:ds d="100000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449568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  <a:ds d="100000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35053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  <a:ds d="100000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289548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  <a:ds d="100000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vs Data Encry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number of tiny messages (less data bits than authentication bits), that are highly structured with small differences nullifies the benefit of hashing and may be an exploitable wea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ht as well encrypt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ly can be less work (c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key management as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“party line” capability as plaintext broad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s against additional 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ore of an regulation threat than sign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mployee</dc:creator>
  <dc:description/>
  <dc:language>en-US</dc:language>
  <cp:lastModifiedBy>Employee</cp:lastModifiedBy>
  <cp:revision>0</cp:revision>
  <dc:subject/>
  <dc:title>No Slide Title</dc:title>
</cp:coreProperties>
</file>