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-228600" y="5189400"/>
            <a:ext cx="769464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2666880" y="640872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6399360" y="6075360"/>
            <a:ext cx="990720" cy="1552680"/>
            <a:chOff x="6399360" y="6075360"/>
            <a:chExt cx="990720" cy="1552680"/>
          </a:xfrm>
        </p:grpSpPr>
        <p:sp>
          <p:nvSpPr>
            <p:cNvPr id="41" name=""/>
            <p:cNvSpPr/>
            <p:nvPr/>
          </p:nvSpPr>
          <p:spPr>
            <a:xfrm>
              <a:off x="6399360" y="6075360"/>
              <a:ext cx="990720" cy="155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 txBox="1"/>
            <p:nvPr/>
          </p:nvSpPr>
          <p:spPr>
            <a:xfrm>
              <a:off x="6446880" y="627372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 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6620040" y="6486480"/>
              <a:ext cx="5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6500880" y="6699240"/>
              <a:ext cx="787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D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6664320" y="6912000"/>
              <a:ext cx="460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6664320" y="7124760"/>
              <a:ext cx="460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-65160" y="5189400"/>
            <a:ext cx="1360440" cy="457560"/>
            <a:chOff x="-65160" y="5189400"/>
            <a:chExt cx="1360440" cy="457560"/>
          </a:xfrm>
        </p:grpSpPr>
        <p:sp>
          <p:nvSpPr>
            <p:cNvPr id="48" name=""/>
            <p:cNvSpPr txBox="1"/>
            <p:nvPr/>
          </p:nvSpPr>
          <p:spPr>
            <a:xfrm>
              <a:off x="366840" y="5189400"/>
              <a:ext cx="49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-65160" y="5372280"/>
              <a:ext cx="1360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-210960" y="1349280"/>
            <a:ext cx="1658880" cy="870120"/>
            <a:chOff x="-210960" y="1349280"/>
            <a:chExt cx="1658880" cy="870120"/>
          </a:xfrm>
        </p:grpSpPr>
        <p:sp>
          <p:nvSpPr>
            <p:cNvPr id="51" name=""/>
            <p:cNvSpPr/>
            <p:nvPr/>
          </p:nvSpPr>
          <p:spPr>
            <a:xfrm>
              <a:off x="-210960" y="1349280"/>
              <a:ext cx="1658880" cy="870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176040" y="1547640"/>
              <a:ext cx="882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 Mob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-93600" y="1776240"/>
              <a:ext cx="1425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ing Sub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295280" y="1685880"/>
            <a:ext cx="228600" cy="22860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04920" y="1305000"/>
            <a:ext cx="282564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19440" y="2778120"/>
            <a:ext cx="985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9840" y="2752560"/>
            <a:ext cx="4267080" cy="1447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641680" y="6431040"/>
            <a:ext cx="3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6561000"/>
            <a:ext cx="849240" cy="38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960720" y="3165480"/>
            <a:ext cx="1295280" cy="501480"/>
            <a:chOff x="3960720" y="3165480"/>
            <a:chExt cx="1295280" cy="501480"/>
          </a:xfrm>
        </p:grpSpPr>
        <p:sp>
          <p:nvSpPr>
            <p:cNvPr id="61" name=""/>
            <p:cNvSpPr/>
            <p:nvPr/>
          </p:nvSpPr>
          <p:spPr>
            <a:xfrm>
              <a:off x="3960720" y="3165480"/>
              <a:ext cx="1295280" cy="501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4062240" y="3247920"/>
              <a:ext cx="1093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racter-orient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4240080" y="3370320"/>
              <a:ext cx="7365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398920" y="3209760"/>
            <a:ext cx="782640" cy="457200"/>
            <a:chOff x="5398920" y="3209760"/>
            <a:chExt cx="782640" cy="457200"/>
          </a:xfrm>
        </p:grpSpPr>
        <p:sp>
          <p:nvSpPr>
            <p:cNvPr id="65" name=""/>
            <p:cNvSpPr/>
            <p:nvPr/>
          </p:nvSpPr>
          <p:spPr>
            <a:xfrm>
              <a:off x="5484960" y="3209760"/>
              <a:ext cx="6094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5398920" y="3270240"/>
              <a:ext cx="7826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ARS/AT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5438880" y="3392640"/>
              <a:ext cx="703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5256360" y="343836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440" y="3438360"/>
            <a:ext cx="469800" cy="23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83816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59240" y="1349280"/>
            <a:ext cx="1658880" cy="870120"/>
            <a:chOff x="4359240" y="1349280"/>
            <a:chExt cx="1658880" cy="870120"/>
          </a:xfrm>
        </p:grpSpPr>
        <p:sp>
          <p:nvSpPr>
            <p:cNvPr id="72" name=""/>
            <p:cNvSpPr/>
            <p:nvPr/>
          </p:nvSpPr>
          <p:spPr>
            <a:xfrm>
              <a:off x="4359240" y="1349280"/>
              <a:ext cx="1658880" cy="870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4870440" y="1547640"/>
              <a:ext cx="6350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4768920" y="1776240"/>
              <a:ext cx="8398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265640" y="1305000"/>
            <a:ext cx="282564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84520" y="131904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431040" y="139536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6103800"/>
            <a:ext cx="774720" cy="46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84960" y="6789600"/>
            <a:ext cx="927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875120" y="5646600"/>
            <a:ext cx="533520" cy="533520"/>
            <a:chOff x="4875120" y="5646600"/>
            <a:chExt cx="533520" cy="533520"/>
          </a:xfrm>
        </p:grpSpPr>
        <p:sp>
          <p:nvSpPr>
            <p:cNvPr id="81" name=""/>
            <p:cNvSpPr/>
            <p:nvPr/>
          </p:nvSpPr>
          <p:spPr>
            <a:xfrm>
              <a:off x="4875120" y="5646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4902120" y="576108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513480" y="3514680"/>
            <a:ext cx="438120" cy="380880"/>
            <a:chOff x="6513480" y="3514680"/>
            <a:chExt cx="438120" cy="380880"/>
          </a:xfrm>
        </p:grpSpPr>
        <p:sp>
          <p:nvSpPr>
            <p:cNvPr id="84" name=""/>
            <p:cNvSpPr/>
            <p:nvPr/>
          </p:nvSpPr>
          <p:spPr>
            <a:xfrm>
              <a:off x="6531120" y="3514680"/>
              <a:ext cx="40176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513480" y="356868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V="1">
            <a:off x="5332320" y="3895560"/>
            <a:ext cx="1371600" cy="18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1990800"/>
            <a:ext cx="2827440" cy="366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950000" y="2219400"/>
            <a:ext cx="230040" cy="1003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1836720"/>
            <a:ext cx="4659120" cy="144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86000" y="6942240"/>
            <a:ext cx="990720" cy="762120"/>
            <a:chOff x="2286000" y="6942240"/>
            <a:chExt cx="990720" cy="762120"/>
          </a:xfrm>
        </p:grpSpPr>
        <p:sp>
          <p:nvSpPr>
            <p:cNvPr id="91" name=""/>
            <p:cNvSpPr/>
            <p:nvPr/>
          </p:nvSpPr>
          <p:spPr>
            <a:xfrm>
              <a:off x="2286000" y="6942240"/>
              <a:ext cx="99072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333520" y="695808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 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2317680" y="7170840"/>
              <a:ext cx="925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SMH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2476440" y="738360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ID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V="1">
            <a:off x="3276720" y="7094520"/>
            <a:ext cx="53172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11400" y="5799240"/>
            <a:ext cx="703440" cy="533520"/>
            <a:chOff x="1211400" y="5799240"/>
            <a:chExt cx="703440" cy="533520"/>
          </a:xfrm>
        </p:grpSpPr>
        <p:sp>
          <p:nvSpPr>
            <p:cNvPr id="97" name=""/>
            <p:cNvSpPr/>
            <p:nvPr/>
          </p:nvSpPr>
          <p:spPr>
            <a:xfrm>
              <a:off x="1219320" y="5799240"/>
              <a:ext cx="6858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1216080" y="5897520"/>
              <a:ext cx="6922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N/AT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211400" y="6019920"/>
              <a:ext cx="703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399360" y="3057480"/>
            <a:ext cx="121932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784680" y="6865920"/>
            <a:ext cx="352440" cy="304920"/>
            <a:chOff x="3784680" y="6865920"/>
            <a:chExt cx="352440" cy="304920"/>
          </a:xfrm>
        </p:grpSpPr>
        <p:sp>
          <p:nvSpPr>
            <p:cNvPr id="102" name=""/>
            <p:cNvSpPr/>
            <p:nvPr/>
          </p:nvSpPr>
          <p:spPr>
            <a:xfrm>
              <a:off x="3808440" y="6865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784680" y="6865920"/>
              <a:ext cx="352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156280" y="6637320"/>
            <a:ext cx="352440" cy="304920"/>
            <a:chOff x="5156280" y="6637320"/>
            <a:chExt cx="352440" cy="304920"/>
          </a:xfrm>
        </p:grpSpPr>
        <p:sp>
          <p:nvSpPr>
            <p:cNvPr id="105" name=""/>
            <p:cNvSpPr/>
            <p:nvPr/>
          </p:nvSpPr>
          <p:spPr>
            <a:xfrm>
              <a:off x="5180040" y="66373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5156280" y="6637320"/>
              <a:ext cx="352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4113360" y="6789600"/>
            <a:ext cx="1079280" cy="230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971800" y="5872320"/>
            <a:ext cx="1916280" cy="688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0040" y="6180120"/>
            <a:ext cx="155520" cy="46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970680" y="3133800"/>
            <a:ext cx="438120" cy="380880"/>
            <a:chOff x="6970680" y="3133800"/>
            <a:chExt cx="438120" cy="380880"/>
          </a:xfrm>
        </p:grpSpPr>
        <p:sp>
          <p:nvSpPr>
            <p:cNvPr id="111" name=""/>
            <p:cNvSpPr/>
            <p:nvPr/>
          </p:nvSpPr>
          <p:spPr>
            <a:xfrm>
              <a:off x="6988320" y="3133800"/>
              <a:ext cx="40176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6970680" y="318780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V="1">
            <a:off x="6932520" y="35146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943280" y="1609560"/>
            <a:ext cx="438120" cy="380880"/>
            <a:chOff x="1943280" y="1609560"/>
            <a:chExt cx="438120" cy="380880"/>
          </a:xfrm>
        </p:grpSpPr>
        <p:sp>
          <p:nvSpPr>
            <p:cNvPr id="115" name=""/>
            <p:cNvSpPr/>
            <p:nvPr/>
          </p:nvSpPr>
          <p:spPr>
            <a:xfrm>
              <a:off x="1960560" y="1609560"/>
              <a:ext cx="40176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1943280" y="1663560"/>
              <a:ext cx="438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380880" y="3732120"/>
            <a:ext cx="769464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029120" y="838080"/>
            <a:ext cx="703440" cy="533520"/>
            <a:chOff x="4029120" y="838080"/>
            <a:chExt cx="703440" cy="533520"/>
          </a:xfrm>
        </p:grpSpPr>
        <p:sp>
          <p:nvSpPr>
            <p:cNvPr id="119" name=""/>
            <p:cNvSpPr/>
            <p:nvPr/>
          </p:nvSpPr>
          <p:spPr>
            <a:xfrm>
              <a:off x="4037040" y="838080"/>
              <a:ext cx="6858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4033800" y="936720"/>
              <a:ext cx="6922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N/AT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029120" y="1058760"/>
              <a:ext cx="703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6720" y="4618080"/>
            <a:ext cx="990720" cy="1552680"/>
            <a:chOff x="6246720" y="4618080"/>
            <a:chExt cx="990720" cy="1552680"/>
          </a:xfrm>
        </p:grpSpPr>
        <p:sp>
          <p:nvSpPr>
            <p:cNvPr id="123" name=""/>
            <p:cNvSpPr/>
            <p:nvPr/>
          </p:nvSpPr>
          <p:spPr>
            <a:xfrm>
              <a:off x="6246720" y="4618080"/>
              <a:ext cx="990720" cy="1552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6294600" y="48164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 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6467400" y="5029200"/>
              <a:ext cx="549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6348240" y="5241960"/>
              <a:ext cx="787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PDL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512040" y="5454720"/>
              <a:ext cx="460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6512040" y="5667480"/>
              <a:ext cx="460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-217440" y="3732120"/>
            <a:ext cx="1360440" cy="457200"/>
            <a:chOff x="-217440" y="3732120"/>
            <a:chExt cx="1360440" cy="457200"/>
          </a:xfrm>
        </p:grpSpPr>
        <p:sp>
          <p:nvSpPr>
            <p:cNvPr id="130" name=""/>
            <p:cNvSpPr txBox="1"/>
            <p:nvPr/>
          </p:nvSpPr>
          <p:spPr>
            <a:xfrm>
              <a:off x="214200" y="3732120"/>
              <a:ext cx="49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-217440" y="3914640"/>
              <a:ext cx="1360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133720" y="5484960"/>
            <a:ext cx="990720" cy="762120"/>
            <a:chOff x="2133720" y="5484960"/>
            <a:chExt cx="990720" cy="762120"/>
          </a:xfrm>
        </p:grpSpPr>
        <p:sp>
          <p:nvSpPr>
            <p:cNvPr id="133" name=""/>
            <p:cNvSpPr/>
            <p:nvPr/>
          </p:nvSpPr>
          <p:spPr>
            <a:xfrm>
              <a:off x="2133720" y="5484960"/>
              <a:ext cx="99072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2181240" y="550080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 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2165400" y="5713560"/>
              <a:ext cx="925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SMH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24160" y="592596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ID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-762120" y="0"/>
            <a:ext cx="3200400" cy="1905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440" y="0"/>
            <a:ext cx="38098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971880" y="0"/>
            <a:ext cx="1360440" cy="457200"/>
            <a:chOff x="3971880" y="0"/>
            <a:chExt cx="1360440" cy="457200"/>
          </a:xfrm>
        </p:grpSpPr>
        <p:sp>
          <p:nvSpPr>
            <p:cNvPr id="140" name=""/>
            <p:cNvSpPr txBox="1"/>
            <p:nvPr/>
          </p:nvSpPr>
          <p:spPr>
            <a:xfrm>
              <a:off x="4403880" y="0"/>
              <a:ext cx="49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971880" y="182520"/>
              <a:ext cx="1360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-598320" y="0"/>
            <a:ext cx="1360440" cy="457200"/>
            <a:chOff x="-598320" y="0"/>
            <a:chExt cx="1360440" cy="457200"/>
          </a:xfrm>
        </p:grpSpPr>
        <p:sp>
          <p:nvSpPr>
            <p:cNvPr id="143" name=""/>
            <p:cNvSpPr txBox="1"/>
            <p:nvPr/>
          </p:nvSpPr>
          <p:spPr>
            <a:xfrm>
              <a:off x="-361800" y="0"/>
              <a:ext cx="887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AT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-598320" y="182520"/>
              <a:ext cx="1360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280" y="762120"/>
            <a:ext cx="1447920" cy="762120"/>
            <a:chOff x="152280" y="762120"/>
            <a:chExt cx="1447920" cy="762120"/>
          </a:xfrm>
        </p:grpSpPr>
        <p:sp>
          <p:nvSpPr>
            <p:cNvPr id="146" name=""/>
            <p:cNvSpPr/>
            <p:nvPr/>
          </p:nvSpPr>
          <p:spPr>
            <a:xfrm>
              <a:off x="152280" y="762120"/>
              <a:ext cx="144792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614520" y="944640"/>
              <a:ext cx="5223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522360" y="1096920"/>
              <a:ext cx="706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14400" y="1523880"/>
            <a:ext cx="841320" cy="2830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399360" y="76320"/>
            <a:ext cx="990720" cy="762120"/>
            <a:chOff x="6399360" y="76320"/>
            <a:chExt cx="990720" cy="762120"/>
          </a:xfrm>
        </p:grpSpPr>
        <p:sp>
          <p:nvSpPr>
            <p:cNvPr id="151" name=""/>
            <p:cNvSpPr/>
            <p:nvPr/>
          </p:nvSpPr>
          <p:spPr>
            <a:xfrm>
              <a:off x="6399360" y="76320"/>
              <a:ext cx="99072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6446880" y="9216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 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431040" y="304920"/>
              <a:ext cx="9255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SMH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589800" y="51768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ID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 flipV="1">
            <a:off x="6323040" y="8380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143000"/>
            <a:ext cx="2449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2840" y="1066680"/>
            <a:ext cx="317520" cy="158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75120" y="2514600"/>
            <a:ext cx="152640" cy="1687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363680" y="4341960"/>
            <a:ext cx="703440" cy="533520"/>
            <a:chOff x="1363680" y="4341960"/>
            <a:chExt cx="703440" cy="533520"/>
          </a:xfrm>
        </p:grpSpPr>
        <p:sp>
          <p:nvSpPr>
            <p:cNvPr id="160" name=""/>
            <p:cNvSpPr/>
            <p:nvPr/>
          </p:nvSpPr>
          <p:spPr>
            <a:xfrm>
              <a:off x="1371600" y="4341960"/>
              <a:ext cx="6858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1368360" y="4440240"/>
              <a:ext cx="6922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TN/AT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1363680" y="4562640"/>
              <a:ext cx="703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514600" y="495144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489040" y="4973760"/>
            <a:ext cx="3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5103720"/>
            <a:ext cx="849240" cy="385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57400" y="4646520"/>
            <a:ext cx="469800" cy="470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2320" y="533232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22840" y="4189320"/>
            <a:ext cx="533520" cy="533520"/>
            <a:chOff x="4722840" y="4189320"/>
            <a:chExt cx="533520" cy="533520"/>
          </a:xfrm>
        </p:grpSpPr>
        <p:sp>
          <p:nvSpPr>
            <p:cNvPr id="169" name=""/>
            <p:cNvSpPr/>
            <p:nvPr/>
          </p:nvSpPr>
          <p:spPr>
            <a:xfrm>
              <a:off x="4722840" y="418932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4749840" y="430380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V="1">
            <a:off x="3124080" y="5637240"/>
            <a:ext cx="53208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632040" y="5408640"/>
            <a:ext cx="352440" cy="304920"/>
            <a:chOff x="3632040" y="5408640"/>
            <a:chExt cx="352440" cy="304920"/>
          </a:xfrm>
        </p:grpSpPr>
        <p:sp>
          <p:nvSpPr>
            <p:cNvPr id="173" name=""/>
            <p:cNvSpPr/>
            <p:nvPr/>
          </p:nvSpPr>
          <p:spPr>
            <a:xfrm>
              <a:off x="3656160" y="540864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632040" y="5408640"/>
              <a:ext cx="352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03640" y="5180040"/>
            <a:ext cx="352440" cy="304920"/>
            <a:chOff x="5003640" y="5180040"/>
            <a:chExt cx="352440" cy="304920"/>
          </a:xfrm>
        </p:grpSpPr>
        <p:sp>
          <p:nvSpPr>
            <p:cNvPr id="176" name=""/>
            <p:cNvSpPr/>
            <p:nvPr/>
          </p:nvSpPr>
          <p:spPr>
            <a:xfrm>
              <a:off x="5027760" y="518004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5003640" y="5180040"/>
              <a:ext cx="352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 flipV="1">
            <a:off x="3960720" y="5332320"/>
            <a:ext cx="1079640" cy="230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819520" y="4414680"/>
            <a:ext cx="1915920" cy="68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7760" y="4722840"/>
            <a:ext cx="155520" cy="46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570560" y="1981080"/>
            <a:ext cx="533520" cy="533520"/>
            <a:chOff x="4570560" y="1981080"/>
            <a:chExt cx="533520" cy="533520"/>
          </a:xfrm>
        </p:grpSpPr>
        <p:sp>
          <p:nvSpPr>
            <p:cNvPr id="182" name=""/>
            <p:cNvSpPr/>
            <p:nvPr/>
          </p:nvSpPr>
          <p:spPr>
            <a:xfrm>
              <a:off x="4570560" y="1981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4597560" y="209556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94360" y="1371600"/>
            <a:ext cx="352440" cy="304920"/>
            <a:chOff x="5994360" y="1371600"/>
            <a:chExt cx="352440" cy="304920"/>
          </a:xfrm>
        </p:grpSpPr>
        <p:sp>
          <p:nvSpPr>
            <p:cNvPr id="185" name=""/>
            <p:cNvSpPr/>
            <p:nvPr/>
          </p:nvSpPr>
          <p:spPr>
            <a:xfrm>
              <a:off x="6018120" y="13716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5994360" y="1371600"/>
              <a:ext cx="352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003640" y="1143000"/>
            <a:ext cx="352440" cy="304920"/>
            <a:chOff x="5003640" y="1143000"/>
            <a:chExt cx="352440" cy="304920"/>
          </a:xfrm>
        </p:grpSpPr>
        <p:sp>
          <p:nvSpPr>
            <p:cNvPr id="188" name=""/>
            <p:cNvSpPr/>
            <p:nvPr/>
          </p:nvSpPr>
          <p:spPr>
            <a:xfrm>
              <a:off x="5027760" y="1143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5003640" y="1143000"/>
              <a:ext cx="352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32320" y="1371600"/>
            <a:ext cx="698760" cy="154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103720" y="1676520"/>
            <a:ext cx="106704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75120" y="144792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838080" y="162000"/>
            <a:ext cx="1828800" cy="752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533520"/>
            <a:ext cx="649080" cy="3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19440" y="16200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317680" y="444600"/>
            <a:ext cx="196920" cy="231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32040" y="212760"/>
            <a:ext cx="744480" cy="63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N E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DL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162000"/>
            <a:ext cx="1828800" cy="752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598920" y="212760"/>
            <a:ext cx="744480" cy="63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666960" y="131616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AC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1305000"/>
            <a:ext cx="2819520" cy="981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08280" y="1600200"/>
            <a:ext cx="633240" cy="457200"/>
            <a:chOff x="3608280" y="1600200"/>
            <a:chExt cx="633240" cy="457200"/>
          </a:xfrm>
        </p:grpSpPr>
        <p:sp>
          <p:nvSpPr>
            <p:cNvPr id="203" name=""/>
            <p:cNvSpPr/>
            <p:nvPr/>
          </p:nvSpPr>
          <p:spPr>
            <a:xfrm>
              <a:off x="3693960" y="1600200"/>
              <a:ext cx="525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3608280" y="1684440"/>
              <a:ext cx="63324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ARS/AT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3639960" y="1806480"/>
              <a:ext cx="5731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044880" y="1676520"/>
            <a:ext cx="353880" cy="307800"/>
            <a:chOff x="3044880" y="1676520"/>
            <a:chExt cx="353880" cy="307800"/>
          </a:xfrm>
        </p:grpSpPr>
        <p:sp>
          <p:nvSpPr>
            <p:cNvPr id="207" name=""/>
            <p:cNvSpPr/>
            <p:nvPr/>
          </p:nvSpPr>
          <p:spPr>
            <a:xfrm>
              <a:off x="3079800" y="1676520"/>
              <a:ext cx="309600" cy="30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3044880" y="1755720"/>
              <a:ext cx="3538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 txBox="1"/>
          <p:nvPr/>
        </p:nvSpPr>
        <p:spPr>
          <a:xfrm>
            <a:off x="4564080" y="1668600"/>
            <a:ext cx="880920" cy="369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2743200"/>
            <a:ext cx="1828800" cy="152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157480" y="16200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32040" y="3184560"/>
            <a:ext cx="515880" cy="63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N E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DL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752480" y="380988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7920" y="3352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574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2743200"/>
            <a:ext cx="1828800" cy="152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952880" y="38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64832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22240" y="2757600"/>
            <a:ext cx="1392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G ATN ORGANIS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946680" y="2757600"/>
            <a:ext cx="952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-G A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818240" y="2955960"/>
            <a:ext cx="515880" cy="63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S1/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199120" y="3413160"/>
            <a:ext cx="515880" cy="6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N E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358128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4800600" y="29718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4120" y="297180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114800" y="3352680"/>
            <a:ext cx="457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N/AT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657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5410080"/>
            <a:ext cx="4419720" cy="2208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839960" y="5452920"/>
            <a:ext cx="968400" cy="397080"/>
            <a:chOff x="1839960" y="5452920"/>
            <a:chExt cx="968400" cy="397080"/>
          </a:xfrm>
        </p:grpSpPr>
        <p:sp>
          <p:nvSpPr>
            <p:cNvPr id="230" name=""/>
            <p:cNvSpPr txBox="1"/>
            <p:nvPr/>
          </p:nvSpPr>
          <p:spPr>
            <a:xfrm>
              <a:off x="2271600" y="5452920"/>
              <a:ext cx="3938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839960" y="5635800"/>
              <a:ext cx="9684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352680" y="6248520"/>
            <a:ext cx="316080" cy="46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2840" y="6627960"/>
            <a:ext cx="927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113360" y="5484960"/>
            <a:ext cx="533520" cy="533520"/>
            <a:chOff x="4113360" y="5484960"/>
            <a:chExt cx="533520" cy="533520"/>
          </a:xfrm>
        </p:grpSpPr>
        <p:sp>
          <p:nvSpPr>
            <p:cNvPr id="235" name=""/>
            <p:cNvSpPr/>
            <p:nvPr/>
          </p:nvSpPr>
          <p:spPr>
            <a:xfrm>
              <a:off x="4113360" y="548496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4140360" y="559908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V="1">
            <a:off x="3124080" y="6856560"/>
            <a:ext cx="53208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32040" y="6627960"/>
            <a:ext cx="352440" cy="304920"/>
            <a:chOff x="3632040" y="6627960"/>
            <a:chExt cx="352440" cy="304920"/>
          </a:xfrm>
        </p:grpSpPr>
        <p:sp>
          <p:nvSpPr>
            <p:cNvPr id="239" name=""/>
            <p:cNvSpPr/>
            <p:nvPr/>
          </p:nvSpPr>
          <p:spPr>
            <a:xfrm>
              <a:off x="3656160" y="662796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3632040" y="6627960"/>
              <a:ext cx="352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394160" y="6475320"/>
            <a:ext cx="352440" cy="304920"/>
            <a:chOff x="4394160" y="6475320"/>
            <a:chExt cx="352440" cy="304920"/>
          </a:xfrm>
        </p:grpSpPr>
        <p:sp>
          <p:nvSpPr>
            <p:cNvPr id="242" name=""/>
            <p:cNvSpPr/>
            <p:nvPr/>
          </p:nvSpPr>
          <p:spPr>
            <a:xfrm>
              <a:off x="4417920" y="64753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4394160" y="6475320"/>
              <a:ext cx="3524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3960720" y="6629400"/>
            <a:ext cx="45900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7920" y="6018120"/>
            <a:ext cx="155520" cy="470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656320" y="6308640"/>
            <a:ext cx="515880" cy="63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N E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DL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836800" y="6765840"/>
            <a:ext cx="515880" cy="6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N E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95480" y="5943600"/>
            <a:ext cx="4572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N/AT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676520" y="815328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67080" y="7934400"/>
            <a:ext cx="1828800" cy="752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8305920"/>
            <a:ext cx="649080" cy="3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46680" y="8217000"/>
            <a:ext cx="196920" cy="231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361040" y="7985160"/>
            <a:ext cx="744480" cy="63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N E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DL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29280" y="793440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00200" y="7934400"/>
            <a:ext cx="1828800" cy="752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248520" y="57913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5791320"/>
            <a:ext cx="1218960" cy="243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057400" y="6248520"/>
            <a:ext cx="838080" cy="1904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25760" y="7967520"/>
            <a:ext cx="968400" cy="397080"/>
            <a:chOff x="2525760" y="7967520"/>
            <a:chExt cx="968400" cy="397080"/>
          </a:xfrm>
        </p:grpSpPr>
        <p:sp>
          <p:nvSpPr>
            <p:cNvPr id="260" name=""/>
            <p:cNvSpPr txBox="1"/>
            <p:nvPr/>
          </p:nvSpPr>
          <p:spPr>
            <a:xfrm>
              <a:off x="2957400" y="7967520"/>
              <a:ext cx="3938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525760" y="8150400"/>
              <a:ext cx="9684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133720" y="4191120"/>
            <a:ext cx="990360" cy="175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514600" y="3581280"/>
            <a:ext cx="160020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62320" y="3429000"/>
            <a:ext cx="1752480" cy="2286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343400" y="4191120"/>
            <a:ext cx="457200" cy="12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209680" y="198108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2057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09680" y="685800"/>
            <a:ext cx="228600" cy="2514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838080"/>
            <a:ext cx="99072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685800"/>
            <a:ext cx="762120" cy="990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91120" y="1828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18288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p drafting group</dc:creator>
  <dc:description/>
  <dc:language>en-US</dc:language>
  <cp:lastModifiedBy>STel</cp:lastModifiedBy>
  <cp:revision>0</cp:revision>
  <dc:subject/>
  <dc:title>wwp1.6, fig. 4.3-1 and 4.3-2</dc:title>
</cp:coreProperties>
</file>