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02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7F3B-C364-4676-B089-97DA0E270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F4F7-73E5-4AAE-850E-9ED43086D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656D-148D-4FFE-8DD6-8EEE1AC0D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CB62-DA5B-427E-9C86-24E4FAD6D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9DC3-4A03-42B0-9CB5-FA76CA1DC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31D4-6A4C-4179-A02E-F9893A2518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813A-DC99-4E6D-8FA7-DF3AECE554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B184-0E91-4308-B84C-A29D4EE11E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41D9-DF2B-42B9-86C5-88A56B5038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7772-56D7-4841-8819-AC2CDCA37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7570-689C-4F92-97CA-DA4E1A9C9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6C70-CD38-433F-92B8-E869C0F64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EB4D-0588-4D8C-A655-85448CECC7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EDE8-6C02-467F-ABC0-D32775F03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A089-0CE4-4D55-BCFB-A13A9C046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0217-B167-4239-9808-CC5B4DDD1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7D74-6FA5-4CBB-B8FD-38B4292FD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61F-FF9C-4040-90D4-A9155DFE3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3E11-8AD4-4C4A-8853-979495183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F35C-6991-41EA-AB75-93E2B9239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BE27-9F3A-4BD8-8515-19EB01A6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3873-F3FF-4C5D-9D29-182352266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E5D7-4369-4ABA-B31F-891BAD8F6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8696-AFC0-429A-BE0D-045142266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520" y="640044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EF3C-99FA-4CFA-B230-9E8F335B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172A-A1EB-4B17-B9D9-193D0F5C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 Infrastructure for AT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848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WG1/SG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resented by: Simon Blake-Wil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lied Signal for NASA 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434D-9E56-4B9B-AD2A-E5E3F4D5F3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MA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195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206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3080" y="144936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0960" y="32781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36376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2080" y="167796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592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3160" y="5030640"/>
            <a:ext cx="118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228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237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245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2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3368-0430-4D56-8456-0283DB92B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Symmetric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ryptography is relatively e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achieve non-repudi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btain shared secret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0A3F-417B-4195-BE3B-D2B7376267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Key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shares a key with a trusted key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(K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191120"/>
            <a:ext cx="14479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4640" y="25750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160" y="25909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152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35400" y="380988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3200400"/>
            <a:ext cx="1295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200400"/>
            <a:ext cx="20574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437920" y="3200040"/>
            <a:ext cx="1600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10840" y="388620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63600" y="333684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0240" y="411480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181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online workload for KTC. Users trust KTC uncondition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A0A8-ECBB-4A00-8FA4-AD15394794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ublic-key cryptographic scheme, each user 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eys known as a key pair. One key is public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s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al relationship between the k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knowledge of public key doe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Public key signature sche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data integrity, data origin authentic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non-repudi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1A19-BEBB-4912-A0BA-D127A8DCC1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5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23960" y="2363760"/>
            <a:ext cx="1497240" cy="455760"/>
            <a:chOff x="2523960" y="2363760"/>
            <a:chExt cx="1497240" cy="455760"/>
          </a:xfrm>
        </p:grpSpPr>
        <p:sp>
          <p:nvSpPr>
            <p:cNvPr id="311" name=""/>
            <p:cNvSpPr/>
            <p:nvPr/>
          </p:nvSpPr>
          <p:spPr>
            <a:xfrm>
              <a:off x="2523960" y="2819520"/>
              <a:ext cx="149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768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95784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317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320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948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62D0-A008-4A32-AB27-D50F24320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Signature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348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351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356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359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24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2520" y="3278160"/>
            <a:ext cx="167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Private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12120" y="2363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1360" y="16779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75560" y="6021360"/>
            <a:ext cx="1719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4960" y="50306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381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390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393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6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CD2F-2F92-4878-90D0-69CC3414C3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s for Public-key Sche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factoriz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, 1024 bit keys,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logarithm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A and Diffie-Hellman, 1024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SA and EC Diffie-Hellman, 160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8315-C19F-4E4B-A3CE-BF2019C0E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Public-key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ke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utational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F0DD-A285-4810-8136-41CE57F732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brid Solution - Key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133720" y="1828800"/>
            <a:ext cx="2091600" cy="990000"/>
            <a:chOff x="2133720" y="1828800"/>
            <a:chExt cx="2091600" cy="990000"/>
          </a:xfrm>
        </p:grpSpPr>
        <p:sp>
          <p:nvSpPr>
            <p:cNvPr id="427" name=""/>
            <p:cNvSpPr/>
            <p:nvPr/>
          </p:nvSpPr>
          <p:spPr>
            <a:xfrm>
              <a:off x="2133720" y="281880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13640" y="182880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K ENCRY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 ENCRYP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432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440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4191120"/>
            <a:ext cx="160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6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461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7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3716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key plus 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6908-5E18-4C84-A552-31D013776F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 Key Distributi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in a public-key scheme, Alice need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ine copy of Bob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an attacker can substitute a fake key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’s key and use this to impersonate B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n attacker obtaining your bla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card and signing it themselves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3F2C-438A-4B32-A718-1BB1C6AAD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infra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AT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overview of AT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for design of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050D-E416-4AF9-867E-EDB3E2139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s to the rescue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Authority (CA) binds Bob and his pub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goes to the CA with hi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 issues a certificate to Bob containing his identity, his public key, and the CA’s signature on his identity and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obtains the CA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verifies the CA’s signature on Bob’s certificate and retrieves his public ke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A6C7-5720-4E08-A1FF-0B98E39796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05120" y="1447920"/>
            <a:ext cx="3751200" cy="4244760"/>
            <a:chOff x="1905120" y="1447920"/>
            <a:chExt cx="3751200" cy="4244760"/>
          </a:xfrm>
        </p:grpSpPr>
        <p:sp>
          <p:nvSpPr>
            <p:cNvPr id="487" name=""/>
            <p:cNvSpPr/>
            <p:nvPr/>
          </p:nvSpPr>
          <p:spPr>
            <a:xfrm>
              <a:off x="1905120" y="5280120"/>
              <a:ext cx="3751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5120" y="482760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unique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05120" y="4157640"/>
              <a:ext cx="3751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public key infor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lgorithm ID, public key va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370512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325440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it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5120" y="280188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235116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signature algorithm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189864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serial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144792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v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144792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05120" y="569268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051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563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5120" y="1898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5120" y="235116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5120" y="280188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2544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05120" y="3705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4157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8276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5120" y="5280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286000" y="5943600"/>
            <a:ext cx="3048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03160" y="592776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3880" y="1371600"/>
            <a:ext cx="449604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81680" y="304812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72400" y="2286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7800" y="1309680"/>
            <a:ext cx="99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3962520"/>
            <a:ext cx="2438280" cy="2133360"/>
          </a:xfrm>
          <a:custGeom>
            <a:avLst/>
            <a:gdLst/>
            <a:ahLst/>
            <a:rect l="l" t="t" r="r" b="b"/>
            <a:pathLst>
              <a:path w="1536" h="1440">
                <a:moveTo>
                  <a:pt x="1536" y="0"/>
                </a:moveTo>
                <a:lnTo>
                  <a:pt x="1536" y="1440"/>
                </a:lnTo>
                <a:lnTo>
                  <a:pt x="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1320" y="1447920"/>
            <a:ext cx="990360" cy="4190760"/>
          </a:xfrm>
          <a:custGeom>
            <a:avLst/>
            <a:gdLst>
              <a:gd name="textAreaLeft" fmla="*/ 0 w 990360"/>
              <a:gd name="textAreaRight" fmla="*/ 357480 w 99036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2386-1BB6-4D95-995C-EC2C854A49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can solve the public key 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 Unlike KTCs, CAs can be off-line and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nconditionally trus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 CAs do take on significant liability,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igh security requirements, and they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 - Public Key Infra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KI. Furthermore, issues need to be addre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size (X.509 cert size often 20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9800-EF6C-445D-B392-AE207BD33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Strict Hierarc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645080" y="2438280"/>
            <a:ext cx="536400" cy="533160"/>
            <a:chOff x="4645080" y="2438280"/>
            <a:chExt cx="536400" cy="533160"/>
          </a:xfrm>
        </p:grpSpPr>
        <p:sp>
          <p:nvSpPr>
            <p:cNvPr id="521" name=""/>
            <p:cNvSpPr/>
            <p:nvPr/>
          </p:nvSpPr>
          <p:spPr>
            <a:xfrm>
              <a:off x="4647960" y="24382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5080" y="2498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230080" y="24987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10000" y="373392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968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7339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2240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09880" y="2895480"/>
            <a:ext cx="9144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297180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487692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48006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19920" y="4191120"/>
            <a:ext cx="76176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980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124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68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4800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2216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943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3656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5943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6868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248520" y="5257800"/>
            <a:ext cx="3808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5257800"/>
            <a:ext cx="381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09720" y="4191120"/>
            <a:ext cx="228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209680" y="411480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124080" y="42670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419112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1371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 can be arranged in a hierarchy. High level CAs certify lower CAs. Problem: root C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E251-A036-4E3A-8FA8-EF4B9D126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Cross-cert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905120" y="3718080"/>
            <a:ext cx="2057400" cy="1735920"/>
            <a:chOff x="1905120" y="3718080"/>
            <a:chExt cx="2057400" cy="1735920"/>
          </a:xfrm>
        </p:grpSpPr>
        <p:grpSp>
          <p:nvGrpSpPr>
            <p:cNvPr id="555" name=""/>
            <p:cNvGrpSpPr/>
            <p:nvPr/>
          </p:nvGrpSpPr>
          <p:grpSpPr>
            <a:xfrm>
              <a:off x="2661840" y="3718080"/>
              <a:ext cx="614880" cy="533160"/>
              <a:chOff x="2661840" y="3718080"/>
              <a:chExt cx="614880" cy="533160"/>
            </a:xfrm>
          </p:grpSpPr>
          <p:sp>
            <p:nvSpPr>
              <p:cNvPr id="556" name=""/>
              <p:cNvSpPr/>
              <p:nvPr/>
            </p:nvSpPr>
            <p:spPr>
              <a:xfrm>
                <a:off x="2667240" y="3718080"/>
                <a:ext cx="60948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61840" y="377820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972160" y="425124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09680" y="4174920"/>
              <a:ext cx="6094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440" y="4174920"/>
              <a:ext cx="5335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512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2212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84240" y="50133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724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9360" y="5013360"/>
              <a:ext cx="53316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4600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181480" y="3730680"/>
            <a:ext cx="2057400" cy="1722960"/>
            <a:chOff x="5181480" y="3730680"/>
            <a:chExt cx="2057400" cy="1722960"/>
          </a:xfrm>
        </p:grpSpPr>
        <p:grpSp>
          <p:nvGrpSpPr>
            <p:cNvPr id="568" name=""/>
            <p:cNvGrpSpPr/>
            <p:nvPr/>
          </p:nvGrpSpPr>
          <p:grpSpPr>
            <a:xfrm>
              <a:off x="5938200" y="3730680"/>
              <a:ext cx="614880" cy="528480"/>
              <a:chOff x="5938200" y="3730680"/>
              <a:chExt cx="614880" cy="528480"/>
            </a:xfrm>
          </p:grpSpPr>
          <p:sp>
            <p:nvSpPr>
              <p:cNvPr id="569" name=""/>
              <p:cNvSpPr/>
              <p:nvPr/>
            </p:nvSpPr>
            <p:spPr>
              <a:xfrm>
                <a:off x="5943600" y="3730680"/>
                <a:ext cx="609480" cy="528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38200" y="379044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48160" y="4259160"/>
              <a:ext cx="0" cy="75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6040" y="4182840"/>
              <a:ext cx="60948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182840"/>
              <a:ext cx="53316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8148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848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0240" y="5013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43600" y="5013000"/>
              <a:ext cx="53316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36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236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276720" y="3886200"/>
            <a:ext cx="26668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23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each other certificates (cross-cert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liability and cross-certification man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C392-DBA7-4A5B-89A3-45C41C8DFD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s may need to be revok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icion of key comprom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eave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changes role in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cotiabank’s internet banking PK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26 certificates issued. Over 19000 re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9821-EF5E-4CE9-9C7D-76772454F0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solution: certificate rev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. Each CA regularly produces a signed list kn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ertificate revocation list or CRL of the s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revoked certif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CRL distribution and CRL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certificate status che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6A80-481D-4BB4-86E8-AD612EADA9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provides a flexible way to secure electron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bination of symmetric and public-key cryptography is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 used to distribute public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doesn’t come free. Overhead + infrastructure + manag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6F80-96B5-45B9-AF02-2C9DC85A70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selecting security solution: AT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to mitigate the following thr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querade/modification/replay of air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 by flooding ground IDRP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dditional concerns about air IDRP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round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DFB5-C9A8-437E-9BAD-346D475B9D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therefore provided mechanisms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application communications which use ATN upp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IDRP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uthentication of ground-ground apps, 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, AM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0D7D-9AFF-411B-80FE-CE77D4E961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 is concerned with provi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data (during both storage and communic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5CA0-81F2-4CEA-BD21-26C8F9D50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SO GULS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during initial contact with a regional C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tact also establishes shared public value and delivers public keys of applications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and location) specific session keys derived by applications from their key pairs and shared public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application communications secured using MAC under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and source included to prevent re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667F-4C75-409E-83D1-17FA4987F9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76160" y="1371600"/>
          <a:ext cx="7515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71600"/>
                    <a:ext cx="7515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CBD4-DB07-4341-AE25-4A526E7284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initial CMA contact - say CM-log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q: 4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sp: 1500 bits (2/3’s of this is certific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each subsequent secure mes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bits (MAC 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ize RF cost - recall X.5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often 20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DF3-23B6-49C4-8EA9-F3EA0F3BD0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 establishment with either unilateral implicit authentication of aircraft or mutual implicit authentication during IDRP OPEN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ommunications secured using MAC under sess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(already present) prevents re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6DB4-564C-4511-B7B8-C93AB323DF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838080" y="1366920"/>
          <a:ext cx="739152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66920"/>
                    <a:ext cx="73915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450A-3061-4DA4-B59F-67FE3D022E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 (unilateral authentication of aircraft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DRP OP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 OPEN: 35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IDRP OPEN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IDRP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bi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3354-1E14-4786-8A84-02D0447AF4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GULS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nications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ield included to prevent re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478-5935-41AB-A5BF-358C228DCD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o air-ground IDRP solu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AA17-D93C-4DC1-9564-9E39C79F43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ISO X.400 security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variant parameter field and recipient identity included to prevent replay and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C0E1-523E-49DC-8D44-51253C3479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orting Infra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entities require secure module to generate and store keys and security related databases, and to perform crypto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PKI to distribute public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ecurity management and security policies as guida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32AB-6530-40E7-BC6D-A9A6CDB678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7360" y="1501920"/>
            <a:ext cx="93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8320" y="150192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080" y="3863880"/>
            <a:ext cx="10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2070000"/>
            <a:ext cx="2412720" cy="145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2327400"/>
            <a:ext cx="23328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0120" y="2327400"/>
            <a:ext cx="23184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71880" y="2776680"/>
            <a:ext cx="230040" cy="231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90120" y="31021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44332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4640" y="2297160"/>
            <a:ext cx="148680" cy="9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7" y="3234"/>
                </a:moveTo>
                <a:arcTo wR="10800" hR="10800" stAng="-2668228" swAng="2649704"/>
                <a:lnTo>
                  <a:pt x="10800" y="10800"/>
                </a:lnTo>
                <a:close/>
              </a:path>
              <a:path fill="none" w="21600" h="21600">
                <a:moveTo>
                  <a:pt x="18507" y="3234"/>
                </a:moveTo>
                <a:arcTo wR="10800" hR="10800" stAng="-2668228" swAng="2649704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2070000"/>
            <a:ext cx="2336760" cy="14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988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544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7720" y="2754360"/>
            <a:ext cx="222480" cy="223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6560" y="306864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7400" y="2460600"/>
            <a:ext cx="11934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52448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524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4508640"/>
            <a:ext cx="2412720" cy="14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812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1880" y="5214960"/>
            <a:ext cx="230040" cy="231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8280" y="55404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4680" y="4910040"/>
            <a:ext cx="1358640" cy="5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032" swAng="5389507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032" swAng="538950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6240" y="4911840"/>
            <a:ext cx="1231560" cy="5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3"/>
                </a:moveTo>
                <a:arcTo wR="10800" hR="10800" stAng="-10762836" swAng="5353976"/>
                <a:lnTo>
                  <a:pt x="10800" y="10800"/>
                </a:lnTo>
                <a:close/>
              </a:path>
              <a:path fill="none" w="21600" h="21600">
                <a:moveTo>
                  <a:pt x="1" y="10683"/>
                </a:moveTo>
                <a:arcTo wR="10800" hR="10800" stAng="-10762836" swAng="535397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3946680"/>
            <a:ext cx="18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Corru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51440" y="5499000"/>
            <a:ext cx="78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0" y="4543560"/>
            <a:ext cx="2336760" cy="14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8080" y="4792680"/>
            <a:ext cx="22536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2200" y="4792680"/>
            <a:ext cx="22392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7720" y="5227560"/>
            <a:ext cx="222480" cy="222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2280" y="4932360"/>
            <a:ext cx="13140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303" swAng="5408303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303" swAng="540830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7800" y="4884840"/>
            <a:ext cx="125028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810" swAng="537308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810" swAng="5373085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554040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BC4C-6654-41AC-B140-430CA0E56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omponents: CAs and Certificate Delive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required to have CA and Delivery Services in place and ensure they a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perating Entities may operate subordinate 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X.509 certificates and C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deliver certificates and CRLs to AT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may be based on directory services. (Or may no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5E26-6278-4B52-89C5-9F09D1FE6C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1143000"/>
            <a:ext cx="6782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1508040"/>
            <a:ext cx="133488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02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38480" y="15080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648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89800" y="1508040"/>
            <a:ext cx="1334880" cy="42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74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97360" y="1690560"/>
            <a:ext cx="888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1690560"/>
            <a:ext cx="77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33368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08160" y="3381480"/>
            <a:ext cx="1335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C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6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7400" y="3246480"/>
            <a:ext cx="13366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49200" y="33368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381480"/>
            <a:ext cx="1111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E 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6884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5920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3381480"/>
            <a:ext cx="1336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72360" y="3154320"/>
            <a:ext cx="13348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6416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488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4880" y="3381480"/>
            <a:ext cx="1446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nd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09680" y="1905120"/>
            <a:ext cx="1905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09520" y="1981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20574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1981080"/>
            <a:ext cx="1752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9056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2720" y="51656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52480" y="5165640"/>
            <a:ext cx="144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C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057040" y="2057400"/>
            <a:ext cx="15228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8128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7344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51656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63800" y="5210280"/>
            <a:ext cx="1557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craft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1080" y="3809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380988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233E-5770-4533-B592-599EA58FCE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 Deliver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Delivery Services deliver certificates and CRLs to ATN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500 directory likely to help on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ications and routers have director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has directory access and provides certificates and CRLs as needed to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s are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certificates for CMA/routers sent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fields known by aircraft in advance not sent on RF. Certificate reconstructed by aircraft before ver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certificates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6BA8-2C82-4175-95CD-A5B9B595F7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developed security solutions to mitigate ATN threats identified by risk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use both symmetric and public-key 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required to support key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ze cost of solution, and, in particular, use of RF bandwi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2BEA-77D4-48EB-B218-ED6EBE0335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ssues it may be desirable to address p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P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C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guidance on security management and security policies (based on validation experie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6C98-9DF4-4E0B-A843-1C8A931293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find out more.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” pap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Application security solution for the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Public key infrastructure for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SARPS SV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or hassle Mike Big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C467-8F46-4AEF-8EA5-28C0196E03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ly data has been stored on paper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= sealed envelope, trusted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= paper itself plus handwritte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= efficient filing and pos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olutions don’t work for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8B9C-4CF4-41CF-A966-E7F90196EE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provides security by trans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tself. It is therefore storag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well-suited to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schemes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igi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23EB-A851-4061-A5A0-6CEA80F74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is widely used today in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ryptographic scheme are in u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schemes and public key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AD93-C874-44F0-8663-B2396B2F0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ymmetric cryptographic scheme, Al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ob must share a secret key in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Examples: US government’s 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essage authentication codes or MA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integrity and data origin authent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5A7A-2739-4F78-91A6-F8502026D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1523880"/>
            <a:ext cx="1434960" cy="1778040"/>
            <a:chOff x="985680" y="1523880"/>
            <a:chExt cx="1434960" cy="1778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98568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7300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1331640" y="2822400"/>
              <a:ext cx="765000" cy="460440"/>
              <a:chOff x="1331640" y="2822400"/>
              <a:chExt cx="765000" cy="460440"/>
            </a:xfrm>
          </p:grpSpPr>
          <p:sp>
            <p:nvSpPr>
              <p:cNvPr id="135" name=""/>
              <p:cNvSpPr/>
              <p:nvPr/>
            </p:nvSpPr>
            <p:spPr>
              <a:xfrm>
                <a:off x="133164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956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456920" y="2868480"/>
                <a:ext cx="92160" cy="336600"/>
                <a:chOff x="1456920" y="2868480"/>
                <a:chExt cx="92160" cy="336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45872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5692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21480000">
                <a:off x="144288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480000">
                <a:off x="142992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552320" y="2857680"/>
                <a:ext cx="538200" cy="376200"/>
                <a:chOff x="1552320" y="2857680"/>
                <a:chExt cx="538200" cy="376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6500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7292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1552320" y="2857680"/>
                  <a:ext cx="538200" cy="376200"/>
                  <a:chOff x="1552320" y="2857680"/>
                  <a:chExt cx="538200" cy="376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480000">
                    <a:off x="155880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480000">
                    <a:off x="160776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67292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65564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57284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194436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040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" y="3278160"/>
            <a:ext cx="15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49800" y="2120760"/>
            <a:ext cx="888840" cy="1257480"/>
            <a:chOff x="4249800" y="2120760"/>
            <a:chExt cx="888840" cy="125748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4249800" y="2120760"/>
              <a:ext cx="8888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329000" y="2200320"/>
              <a:ext cx="6408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00280" y="2363760"/>
            <a:ext cx="1496880" cy="455760"/>
            <a:chOff x="2600280" y="2363760"/>
            <a:chExt cx="1496880" cy="455760"/>
          </a:xfrm>
        </p:grpSpPr>
        <p:sp>
          <p:nvSpPr>
            <p:cNvPr id="158" name=""/>
            <p:cNvSpPr/>
            <p:nvPr/>
          </p:nvSpPr>
          <p:spPr>
            <a:xfrm>
              <a:off x="2600280" y="2819520"/>
              <a:ext cx="149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364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416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262400" y="4343400"/>
            <a:ext cx="1155600" cy="161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02120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262400" y="5486400"/>
            <a:ext cx="763560" cy="458640"/>
            <a:chOff x="4262400" y="5486400"/>
            <a:chExt cx="763560" cy="458640"/>
          </a:xfrm>
        </p:grpSpPr>
        <p:sp>
          <p:nvSpPr>
            <p:cNvPr id="164" name=""/>
            <p:cNvSpPr/>
            <p:nvPr/>
          </p:nvSpPr>
          <p:spPr>
            <a:xfrm>
              <a:off x="427212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240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11760" y="5560920"/>
              <a:ext cx="88920" cy="339840"/>
              <a:chOff x="4811760" y="5560920"/>
              <a:chExt cx="88920" cy="339840"/>
            </a:xfrm>
          </p:grpSpPr>
          <p:sp>
            <p:nvSpPr>
              <p:cNvPr id="167" name=""/>
              <p:cNvSpPr/>
              <p:nvPr/>
            </p:nvSpPr>
            <p:spPr>
              <a:xfrm>
                <a:off x="481176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1176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908600" y="5530680"/>
              <a:ext cx="4680" cy="37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3000" y="5570640"/>
              <a:ext cx="4680" cy="293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267440" y="5530680"/>
              <a:ext cx="529920" cy="378000"/>
              <a:chOff x="4267440" y="5530680"/>
              <a:chExt cx="529920" cy="37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616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148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267440" y="5530680"/>
                <a:ext cx="529920" cy="378000"/>
                <a:chOff x="4267440" y="5530680"/>
                <a:chExt cx="529920" cy="378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88000" y="5530680"/>
                  <a:ext cx="9360" cy="3780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41920" y="5610240"/>
                  <a:ext cx="9720" cy="233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44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572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036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403560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960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504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308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373880" y="4788000"/>
            <a:ext cx="889200" cy="1257120"/>
            <a:chOff x="7373880" y="4788000"/>
            <a:chExt cx="889200" cy="125712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37388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4056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72080" y="5486400"/>
            <a:ext cx="1496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580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052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4A8D-B2FD-4258-8075-387B92936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4:53:44Z</dcterms:created>
  <dc:creator>Alfred Menezes</dc:creator>
  <dc:description/>
  <dc:language>en-US</dc:language>
  <cp:lastModifiedBy>Simon Blake-Wilson</cp:lastModifiedBy>
  <dcterms:modified xsi:type="dcterms:W3CDTF">1999-10-05T13:05:53Z</dcterms:modified>
  <cp:revision>28</cp:revision>
  <dc:subject/>
  <dc:title>Overview of Cryptography</dc:title>
</cp:coreProperties>
</file>